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234-74F9-42FA-A601-39CBC5E0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974-CB6B-47A9-8E87-6A5FB84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8FE-2F59-4AE2-BFFB-4D93CC33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8AB-8161-4A96-9D49-8D26536C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19E-8B3F-476B-9497-852039B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87E-AA94-4ECD-95DA-039078D9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977-4650-4B78-B8D2-1FF5FBB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FA4-879A-4B4F-AB8B-C9D0AAF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E77-A07B-483B-B558-B96FB39B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6BD-3204-4336-9B08-AC28E63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608-A5D4-470C-93C6-34097D4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619-BC7B-437A-80A7-99D061A9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FEB2-5EE3-4078-9B0B-B50D7A413B48}" type="slidenum">
              <a:rPr b="0" lang="hu-HU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260280"/>
            <a:ext cx="6732720" cy="1873440"/>
          </a:xfrm>
          <a:prstGeom prst="roundRect">
            <a:avLst>
              <a:gd name="adj" fmla="val 7366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" name="Picture 9" descr="logo_kicsi"/>
          <p:cNvPicPr/>
          <p:nvPr/>
        </p:nvPicPr>
        <p:blipFill>
          <a:blip r:embed="rId1"/>
          <a:stretch/>
        </p:blipFill>
        <p:spPr>
          <a:xfrm>
            <a:off x="328680" y="322200"/>
            <a:ext cx="2152440" cy="173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987640" y="765000"/>
            <a:ext cx="345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Magy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lektrotechnika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gyesül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8080" y="260280"/>
            <a:ext cx="0" cy="2664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5" name="Picture 16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191880" cy="1814760"/>
          </a:xfrm>
          <a:prstGeom prst="rect">
            <a:avLst/>
          </a:prstGeom>
          <a:ln w="0">
            <a:noFill/>
          </a:ln>
        </p:spPr>
      </p:pic>
      <p:sp>
        <p:nvSpPr>
          <p:cNvPr id="46" name="Line 17"/>
          <p:cNvSpPr/>
          <p:nvPr/>
        </p:nvSpPr>
        <p:spPr>
          <a:xfrm>
            <a:off x="208080" y="260280"/>
            <a:ext cx="45464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2484360" y="2205000"/>
            <a:ext cx="6262920" cy="237636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843280" y="2589120"/>
            <a:ext cx="5616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99"/>
                </a:solidFill>
                <a:latin typeface="Arial"/>
              </a:rPr>
              <a:t>Érintésvédelem 9. rész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Jegyzetcím: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4. Kisfeszültségű rendszerek áramütés elleni védelm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TT-rendszer,  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fffff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AutoShape 28"/>
          <p:cNvSpPr/>
          <p:nvPr/>
        </p:nvSpPr>
        <p:spPr>
          <a:xfrm>
            <a:off x="3708360" y="5157720"/>
            <a:ext cx="5184720" cy="129564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4284720" y="5229360"/>
            <a:ext cx="41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assai Józse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ny. főiskolai doce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Szövegdoboz 1"/>
          <p:cNvSpPr/>
          <p:nvPr/>
        </p:nvSpPr>
        <p:spPr>
          <a:xfrm>
            <a:off x="539640" y="134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Szövegdoboz 2"/>
          <p:cNvSpPr/>
          <p:nvPr/>
        </p:nvSpPr>
        <p:spPr>
          <a:xfrm>
            <a:off x="324000" y="2233440"/>
            <a:ext cx="38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IT-rendszerben a tápláló rendszernek nincs közvetlenül földelt pontja (szigetelt csillagpontú, vagy impedancián keresztül földelt a csillagpont, ezt jelöli az „I” betű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IT-rendszerben minden érintésvédelemmel ellátandó testet PE-vezetőn (védővezetőn) keresztül közvetlenül le kell földelni, , ezt jelöli a „T” betű (védőföldelés)!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094280" y="2060640"/>
            <a:ext cx="5086080" cy="3943440"/>
          </a:xfrm>
          <a:prstGeom prst="rect">
            <a:avLst/>
          </a:prstGeom>
          <a:ln w="0">
            <a:noFill/>
          </a:ln>
        </p:spPr>
      </p:pic>
      <p:sp>
        <p:nvSpPr>
          <p:cNvPr id="112" name="Szövegdoboz 1"/>
          <p:cNvSpPr/>
          <p:nvPr/>
        </p:nvSpPr>
        <p:spPr>
          <a:xfrm>
            <a:off x="7956720" y="3573360"/>
            <a:ext cx="1223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Szövegdoboz 2"/>
          <p:cNvSpPr/>
          <p:nvPr/>
        </p:nvSpPr>
        <p:spPr>
          <a:xfrm>
            <a:off x="5292720" y="544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Fogyasztói védőföldelé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Szövegdoboz 3"/>
          <p:cNvSpPr/>
          <p:nvPr/>
        </p:nvSpPr>
        <p:spPr>
          <a:xfrm>
            <a:off x="395280" y="6308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: Védőföldelés közvetetten földelt 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723960" y="1627200"/>
          <a:ext cx="7696080" cy="49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27200"/>
                    <a:ext cx="7696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Szövegdoboz 1"/>
          <p:cNvSpPr/>
          <p:nvPr/>
        </p:nvSpPr>
        <p:spPr>
          <a:xfrm>
            <a:off x="179280" y="134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alkalmaz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723960" y="1627200"/>
          <a:ext cx="7576920" cy="52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27200"/>
                    <a:ext cx="757692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Szövegdoboz 1"/>
          <p:cNvSpPr/>
          <p:nvPr/>
        </p:nvSpPr>
        <p:spPr>
          <a:xfrm>
            <a:off x="179280" y="134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méretez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Szövegdoboz 1"/>
          <p:cNvSpPr/>
          <p:nvPr/>
        </p:nvSpPr>
        <p:spPr>
          <a:xfrm>
            <a:off x="179280" y="6381720"/>
            <a:ext cx="896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testzárlati áram (fémes földzárlati áram) 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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az ép fázisok ohmos, kapacitív árama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582480" y="1627200"/>
          <a:ext cx="8371080" cy="58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1627200"/>
                    <a:ext cx="837108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Szövegdoboz 1"/>
          <p:cNvSpPr/>
          <p:nvPr/>
        </p:nvSpPr>
        <p:spPr>
          <a:xfrm>
            <a:off x="179280" y="134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méretez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Szövegdoboz 1"/>
          <p:cNvSpPr/>
          <p:nvPr/>
        </p:nvSpPr>
        <p:spPr>
          <a:xfrm>
            <a:off x="179280" y="6381720"/>
            <a:ext cx="896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testzárlati áram (fémes földzárlati áram) 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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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az ép fázisok ohmos, kapacitív árama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473040" y="1844640"/>
          <a:ext cx="8346960" cy="46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844640"/>
                    <a:ext cx="8346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Szövegdoboz 1"/>
          <p:cNvSpPr/>
          <p:nvPr/>
        </p:nvSpPr>
        <p:spPr>
          <a:xfrm>
            <a:off x="179280" y="134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méretez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99"/>
                </a:solidFill>
                <a:latin typeface="Arial"/>
              </a:rPr>
              <a:t>IT-rendszerekben alkalmazható ellenőrző és védelmi eszközö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10920" y="2637000"/>
            <a:ext cx="79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Szigetelés ellenőrző készülék (IMD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Hibaáram ellenőrző eszközök (RCM-ek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Szigetelési hibahelyet kereső rendszer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Túláramvédelmi eszköz (mindig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Áram-védőkapcsoló (RCD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Szövegdoboz 1"/>
          <p:cNvSpPr/>
          <p:nvPr/>
        </p:nvSpPr>
        <p:spPr>
          <a:xfrm>
            <a:off x="611280" y="6308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z ÁVK alkalmazása nem javasolt</a:t>
            </a:r>
            <a:r>
              <a:rPr b="0" lang="hu-HU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964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Szigetelés ellenőrző készülék (IMD) </a:t>
            </a:r>
            <a:br>
              <a:rPr sz="2800"/>
            </a:b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IT-rendszerben </a:t>
            </a:r>
            <a:br>
              <a:rPr sz="2800"/>
            </a:b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) egyen és b)váltakozó feszültségű tápláláss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0" name="Kép 4" descr="ÉV-IT-szigetelés ellenőrző.jpg"/>
          <p:cNvPicPr/>
          <p:nvPr/>
        </p:nvPicPr>
        <p:blipFill>
          <a:blip r:embed="rId1"/>
          <a:stretch/>
        </p:blipFill>
        <p:spPr>
          <a:xfrm>
            <a:off x="1042920" y="2924280"/>
            <a:ext cx="7274160" cy="3313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Szövegdoboz 1"/>
          <p:cNvSpPr/>
          <p:nvPr/>
        </p:nvSpPr>
        <p:spPr>
          <a:xfrm>
            <a:off x="250920" y="6381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Magyar elnevezése Állandó Szigetelés Ellenőrző (ÁSZE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77720" y="202572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2572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S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Szövegdoboz 1"/>
          <p:cNvSpPr/>
          <p:nvPr/>
        </p:nvSpPr>
        <p:spPr>
          <a:xfrm>
            <a:off x="179280" y="1268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földzárlatjelzése ÁSZE-va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28480" y="2066760"/>
          <a:ext cx="8229600" cy="47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06676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S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Szövegdoboz 1"/>
          <p:cNvSpPr/>
          <p:nvPr/>
        </p:nvSpPr>
        <p:spPr>
          <a:xfrm>
            <a:off x="179280" y="1268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földzárlatjelzése ÁSZE-va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Szövegdoboz 1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Míg szigetelésromlásnál minden szigetelési ellenállás csökken, addig földzárlatnál csak a zárlatos vezetéké, és sokkal nagyobb mértékben!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Szövegdoboz 2"/>
          <p:cNvSpPr/>
          <p:nvPr/>
        </p:nvSpPr>
        <p:spPr>
          <a:xfrm>
            <a:off x="7093080" y="4824360"/>
            <a:ext cx="2050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Földzárlat esetén 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SZ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≈ 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843280" y="2637000"/>
            <a:ext cx="367344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Kép 4" descr="ÉV-ipari IT földzárlatjelző.jpg"/>
          <p:cNvPicPr/>
          <p:nvPr/>
        </p:nvPicPr>
        <p:blipFill>
          <a:blip r:embed="rId1"/>
          <a:stretch/>
        </p:blipFill>
        <p:spPr>
          <a:xfrm>
            <a:off x="1332000" y="2421000"/>
            <a:ext cx="6192720" cy="3816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RC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zövegdoboz 1"/>
          <p:cNvSpPr/>
          <p:nvPr/>
        </p:nvSpPr>
        <p:spPr>
          <a:xfrm>
            <a:off x="179280" y="1268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 földzárlatjelzése RCM-m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Szövegdoboz 2"/>
          <p:cNvSpPr/>
          <p:nvPr/>
        </p:nvSpPr>
        <p:spPr>
          <a:xfrm>
            <a:off x="179280" y="62420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Hibaáram ellenőrző eszköz (RCM), nyitott delta kapcsolá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569880" y="1995480"/>
          <a:ext cx="849168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1995480"/>
                    <a:ext cx="849168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" name="Szövegdoboz 1"/>
          <p:cNvSpPr/>
          <p:nvPr/>
        </p:nvSpPr>
        <p:spPr>
          <a:xfrm>
            <a:off x="179280" y="15987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Testzárlati földáramok okozta potenciáleloszlás a talajfelszínen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Szövegdoboz 2"/>
          <p:cNvSpPr/>
          <p:nvPr/>
        </p:nvSpPr>
        <p:spPr>
          <a:xfrm>
            <a:off x="179280" y="6381720"/>
            <a:ext cx="896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ibafeszültség (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H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), érintési-feszültség (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é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), lépésfeszültség (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lép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2Ff lekapcsolá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zövegdoboz 1"/>
          <p:cNvSpPr/>
          <p:nvPr/>
        </p:nvSpPr>
        <p:spPr>
          <a:xfrm>
            <a:off x="179280" y="1268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IT-rendsz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ettős földzárlat lekapcsol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zövegdoboz 1"/>
          <p:cNvSpPr/>
          <p:nvPr/>
        </p:nvSpPr>
        <p:spPr>
          <a:xfrm>
            <a:off x="324000" y="21002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iért tárgyalja a szabvány az IT-rendszert —, ha az első meghibásodásra nincs beavatkozás — mégis a "táplálás</a:t>
            </a: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önműködő lekapcsolásával" működő védelmek között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ért, mert </a:t>
            </a: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ényeges érintési veszélyt okoz a kettős földzárlat (kettős testzárlat), amelyet ezért önműködően le kell kapcsolni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második testzárlatra, (kettős földzárlatra) történő lekapcsolás méretezése függ a védőföldelés kialakításának módjátó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Ha a testek csoportosan vagy egyenként vannak földelve, akkor a védelem méretezése a TT-rendszer mintájára történhe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457200" y="1727280"/>
          <a:ext cx="8391600" cy="57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27280"/>
                    <a:ext cx="839160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2Ff lekapcsolá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zövegdoboz 1"/>
          <p:cNvSpPr/>
          <p:nvPr/>
        </p:nvSpPr>
        <p:spPr>
          <a:xfrm>
            <a:off x="331920" y="1268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ettős földzárlat lekapcsol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zövegdoboz 5"/>
          <p:cNvSpPr/>
          <p:nvPr/>
        </p:nvSpPr>
        <p:spPr>
          <a:xfrm>
            <a:off x="5364000" y="2798640"/>
            <a:ext cx="36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U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fázisok közötti névleges váltakozó feszültség effektív érték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Z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s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áramkör fázisvezetőjét és védővezetőjét tartalmazó hurokimpedancia-rés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a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az áram, amely a végáramkört lekapcsolja 0,4 s lekapcsolási idő alatt, illetve minden más áramkör esetén 5 s alatt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Szövegdoboz 7"/>
          <p:cNvSpPr/>
          <p:nvPr/>
        </p:nvSpPr>
        <p:spPr>
          <a:xfrm>
            <a:off x="5508720" y="630864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</a:t>
            </a:r>
            <a:r>
              <a:rPr b="0" lang="hu-HU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≈ </a:t>
            </a: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Z</a:t>
            </a:r>
            <a:r>
              <a:rPr b="0" lang="hu-HU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528480" y="1778040"/>
          <a:ext cx="7467840" cy="47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78040"/>
                    <a:ext cx="746784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2Ff lekapcsolá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Szövegdoboz 1"/>
          <p:cNvSpPr/>
          <p:nvPr/>
        </p:nvSpPr>
        <p:spPr>
          <a:xfrm>
            <a:off x="331920" y="1268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ettős földzárlat lekapcsolás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Szövegdoboz 1"/>
          <p:cNvSpPr/>
          <p:nvPr/>
        </p:nvSpPr>
        <p:spPr>
          <a:xfrm>
            <a:off x="4932360" y="2349360"/>
            <a:ext cx="403236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o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fázis és a nulla közötti névleges váltakozó feszültség effektív érték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'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s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z áramkör nullavezetőjét és védővezetőjét tartalmazó hurokimpedancia-rész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z az áram, amely a végáramkört lekapcsolja 0,8 s lekapcsolási idő alatt, illetve minden más áramkör esetén 5 s alatt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zövegdoboz 11"/>
          <p:cNvSpPr/>
          <p:nvPr/>
        </p:nvSpPr>
        <p:spPr>
          <a:xfrm>
            <a:off x="5508720" y="630864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’</a:t>
            </a:r>
            <a:r>
              <a:rPr b="0" lang="hu-HU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</a:t>
            </a: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≈ </a:t>
            </a:r>
            <a:r>
              <a:rPr b="0" i="1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Z’</a:t>
            </a:r>
            <a:r>
              <a:rPr b="0" lang="hu-HU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528480" y="1849320"/>
          <a:ext cx="8066160" cy="47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849320"/>
                    <a:ext cx="806616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V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zövegdoboz 1"/>
          <p:cNvSpPr/>
          <p:nvPr/>
        </p:nvSpPr>
        <p:spPr>
          <a:xfrm>
            <a:off x="10800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ÁVK alkalmazása IT-rendszerben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Szövegdoboz 3"/>
          <p:cNvSpPr/>
          <p:nvPr/>
        </p:nvSpPr>
        <p:spPr>
          <a:xfrm>
            <a:off x="46836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-rendszerben ÁVK alkalmazása nem javasol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528480" y="1773360"/>
          <a:ext cx="7945560" cy="46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73360"/>
                    <a:ext cx="794556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V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Szövegdoboz 1"/>
          <p:cNvSpPr/>
          <p:nvPr/>
        </p:nvSpPr>
        <p:spPr>
          <a:xfrm>
            <a:off x="10800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ÁVK méretezése IT-rendszerben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Szövegdoboz 3"/>
          <p:cNvSpPr/>
          <p:nvPr/>
        </p:nvSpPr>
        <p:spPr>
          <a:xfrm>
            <a:off x="46836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-rendszerben ÁVK alkalmazása nem javasol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00120" y="1700280"/>
          <a:ext cx="7823160" cy="46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700280"/>
                    <a:ext cx="78231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V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Szövegdoboz 1"/>
          <p:cNvSpPr/>
          <p:nvPr/>
        </p:nvSpPr>
        <p:spPr>
          <a:xfrm>
            <a:off x="10800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ÁVK méretezése IT-rendszerben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Szövegdoboz 3"/>
          <p:cNvSpPr/>
          <p:nvPr/>
        </p:nvSpPr>
        <p:spPr>
          <a:xfrm>
            <a:off x="46836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-rendszerben ÁVK alkalmazása nem javasol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Szövegdoboz 1"/>
          <p:cNvSpPr/>
          <p:nvPr/>
        </p:nvSpPr>
        <p:spPr>
          <a:xfrm>
            <a:off x="6019920" y="1916280"/>
            <a:ext cx="312408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álózat fémes földzárlati   áram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Ebből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 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védett rész földkapacitásain záród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z ÁVK különbözeti árama ezen esetben a 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nem védett rész 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1" lang="hu-HU" sz="1800" spc="-1" strike="noStrike" baseline="-25000">
                <a:solidFill>
                  <a:srgbClr val="006699"/>
                </a:solidFill>
                <a:latin typeface="Arial"/>
              </a:rPr>
              <a:t>d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-</a:t>
            </a: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1" lang="hu-HU" sz="1800" spc="-1" strike="noStrike" baseline="-25000">
                <a:solidFill>
                  <a:srgbClr val="006699"/>
                </a:solidFill>
                <a:latin typeface="Arial"/>
              </a:rPr>
              <a:t>c</a:t>
            </a:r>
            <a:r>
              <a:rPr b="1" lang="hu-HU" sz="1800" spc="-1" strike="noStrike">
                <a:solidFill>
                  <a:srgbClr val="006699"/>
                </a:solidFill>
                <a:latin typeface="Arial"/>
              </a:rPr>
              <a:t> nagyságú árama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zövegdoboz 2"/>
          <p:cNvSpPr/>
          <p:nvPr/>
        </p:nvSpPr>
        <p:spPr>
          <a:xfrm>
            <a:off x="6372360" y="3948120"/>
            <a:ext cx="2771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hhoz, hogy az ÁVK testzárlatkor működjön, a névleges kioldóárama 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n,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kisebbnek kell lennie, mint a működtető 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-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áram, azaz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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 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-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673200" y="1684440"/>
          <a:ext cx="7710480" cy="47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1684440"/>
                    <a:ext cx="771048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V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zövegdoboz 1"/>
          <p:cNvSpPr/>
          <p:nvPr/>
        </p:nvSpPr>
        <p:spPr>
          <a:xfrm>
            <a:off x="10800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ÁVK méretezése IT-rendszerben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Szövegdoboz 3"/>
          <p:cNvSpPr/>
          <p:nvPr/>
        </p:nvSpPr>
        <p:spPr>
          <a:xfrm>
            <a:off x="46836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-rendszerben ÁVK alkalmazása nem javasol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zövegdoboz 1"/>
          <p:cNvSpPr/>
          <p:nvPr/>
        </p:nvSpPr>
        <p:spPr>
          <a:xfrm>
            <a:off x="5435640" y="1565280"/>
            <a:ext cx="37069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d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álózat fémes földzárlati   áram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Ebből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 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védett rész földkapacitásain záród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különbözeti áram nagysága 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, azaz a védett rész ép fázisainak kapacitív árama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Hogy az ÁVK ezen nem kívánt esetben biztosan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ne működjön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, névleges kioldóáramát 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n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a működést kiváltó áram kétszeresénél nagyobbra kell választani, azaz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Symbol"/>
                <a:ea typeface="Symbol"/>
              </a:rPr>
              <a:t></a:t>
            </a:r>
            <a:r>
              <a:rPr b="0" i="1" lang="hu-HU" sz="1800" spc="-1" strike="noStrike">
                <a:solidFill>
                  <a:srgbClr val="006699"/>
                </a:solidFill>
                <a:latin typeface="Arial"/>
              </a:rPr>
              <a:t> I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n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Szövegdoboz 5"/>
          <p:cNvSpPr/>
          <p:nvPr/>
        </p:nvSpPr>
        <p:spPr>
          <a:xfrm>
            <a:off x="1258920" y="48070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Szövegdoboz 7"/>
          <p:cNvSpPr/>
          <p:nvPr/>
        </p:nvSpPr>
        <p:spPr>
          <a:xfrm>
            <a:off x="1258920" y="4605480"/>
            <a:ext cx="1332000" cy="13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L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fáz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L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3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fázi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IT-rendszer, ÁV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Szövegdoboz 1"/>
          <p:cNvSpPr/>
          <p:nvPr/>
        </p:nvSpPr>
        <p:spPr>
          <a:xfrm>
            <a:off x="10800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VK alkalmazása IT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Egyenes összekötő 4"/>
          <p:cNvSpPr/>
          <p:nvPr/>
        </p:nvSpPr>
        <p:spPr>
          <a:xfrm flipH="1">
            <a:off x="4787640" y="3357720"/>
            <a:ext cx="14436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Egyenes összekötő 6"/>
          <p:cNvSpPr/>
          <p:nvPr/>
        </p:nvSpPr>
        <p:spPr>
          <a:xfrm flipH="1">
            <a:off x="4572000" y="3357720"/>
            <a:ext cx="216000" cy="13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Egyenes összekötő 8"/>
          <p:cNvSpPr/>
          <p:nvPr/>
        </p:nvSpPr>
        <p:spPr>
          <a:xfrm flipH="1">
            <a:off x="4572000" y="3357720"/>
            <a:ext cx="216000" cy="14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Egyenes összekötő 10"/>
          <p:cNvSpPr/>
          <p:nvPr/>
        </p:nvSpPr>
        <p:spPr>
          <a:xfrm>
            <a:off x="4211640" y="4437000"/>
            <a:ext cx="73080" cy="18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Szövegdoboz 3"/>
          <p:cNvSpPr/>
          <p:nvPr/>
        </p:nvSpPr>
        <p:spPr>
          <a:xfrm>
            <a:off x="46836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T-rendszerben ÁVK alkalmazása nem javasol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Szövegdoboz 1"/>
          <p:cNvSpPr/>
          <p:nvPr/>
        </p:nvSpPr>
        <p:spPr>
          <a:xfrm>
            <a:off x="146160" y="2098800"/>
            <a:ext cx="8997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ÉRT NEM JAVASOLT AZ ÁVK ALKALMAZÁSA? ÖSSZEGZÉS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z egész hálózat elvi okokból se védhető (nincs megkerülő áram)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A részekre osztott hálózat védelmének méretezése bonyolult. A beállítás feltétel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 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c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Symbol"/>
                <a:ea typeface="Symbol"/>
              </a:rPr>
              <a:t>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I</a:t>
            </a:r>
            <a:r>
              <a:rPr b="0" lang="el-GR" sz="24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Δ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n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Symbol"/>
                <a:ea typeface="Symbol"/>
              </a:rPr>
              <a:t>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d</a:t>
            </a:r>
            <a:r>
              <a:rPr b="0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– 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Megfelelő méretezés esetén a kioldást a nem védett rész földzárlati árama okozza, amely megváltozik minden hálózatkép módosításk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Nem teljesíti az IT-rendszerrel szembeni elvárásokat, első testzárlatra lekapcsol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zövegdoboz 5"/>
          <p:cNvSpPr/>
          <p:nvPr/>
        </p:nvSpPr>
        <p:spPr>
          <a:xfrm>
            <a:off x="1258920" y="48070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2"/>
          <p:cNvSpPr/>
          <p:nvPr/>
        </p:nvSpPr>
        <p:spPr>
          <a:xfrm>
            <a:off x="4788000" y="907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Előadás vé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4140360" y="347184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szönöm a figyelme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7" name="Picture 16" descr="megujulasi"/>
          <p:cNvPicPr/>
          <p:nvPr/>
        </p:nvPicPr>
        <p:blipFill>
          <a:blip r:embed="rId1"/>
          <a:stretch/>
        </p:blipFill>
        <p:spPr>
          <a:xfrm>
            <a:off x="324000" y="1341360"/>
            <a:ext cx="334620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Szövegdoboz 1"/>
          <p:cNvSpPr/>
          <p:nvPr/>
        </p:nvSpPr>
        <p:spPr>
          <a:xfrm>
            <a:off x="539640" y="134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 TT-rendszer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" name="Szövegdoboz 2"/>
          <p:cNvSpPr/>
          <p:nvPr/>
        </p:nvSpPr>
        <p:spPr>
          <a:xfrm>
            <a:off x="324000" y="1801800"/>
            <a:ext cx="388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TT-rendszerben a nullapontot, vagy ha az nincs kivezetve, akkor az egyik üzemi vezetőt minden generátornál és táptranszformátornál közvetlenül le kell földelni (üzemi földelés)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TT-rendszerben minden érintésvédelemmel ellátandó testet PE-vezetőn (védővezetőn) keresztül közvetlenül le kell földelni (védőföldelés)! Ugyanazon kikapcsolószervvel védett testeket ugyanazon földeléshez kell kötni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094280" y="2060640"/>
            <a:ext cx="5086080" cy="3943440"/>
          </a:xfrm>
          <a:prstGeom prst="rect">
            <a:avLst/>
          </a:prstGeom>
          <a:ln w="0">
            <a:noFill/>
          </a:ln>
        </p:spPr>
      </p:pic>
      <p:sp>
        <p:nvSpPr>
          <p:cNvPr id="63" name="Szövegdoboz 1"/>
          <p:cNvSpPr/>
          <p:nvPr/>
        </p:nvSpPr>
        <p:spPr>
          <a:xfrm>
            <a:off x="7956720" y="4508640"/>
            <a:ext cx="122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Villamos hálózat üzemi földelés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Szövegdoboz 2"/>
          <p:cNvSpPr/>
          <p:nvPr/>
        </p:nvSpPr>
        <p:spPr>
          <a:xfrm>
            <a:off x="5292720" y="544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Fogyasztói védőföldelé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Szövegdoboz 3"/>
          <p:cNvSpPr/>
          <p:nvPr/>
        </p:nvSpPr>
        <p:spPr>
          <a:xfrm>
            <a:off x="395280" y="6308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b050"/>
                </a:solidFill>
                <a:latin typeface="Arial"/>
              </a:rPr>
              <a:t>Korábban: Védőföldelés közvetlenül földelt 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469880" y="1773360"/>
            <a:ext cx="6415200" cy="4464000"/>
          </a:xfrm>
          <a:prstGeom prst="rect">
            <a:avLst/>
          </a:prstGeom>
          <a:ln w="0">
            <a:noFill/>
          </a:ln>
        </p:spPr>
      </p:pic>
      <p:sp>
        <p:nvSpPr>
          <p:cNvPr id="67" name="Szövegdoboz 1"/>
          <p:cNvSpPr/>
          <p:nvPr/>
        </p:nvSpPr>
        <p:spPr>
          <a:xfrm>
            <a:off x="468360" y="134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Testzárlat TT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Szövegdoboz 1"/>
          <p:cNvSpPr/>
          <p:nvPr/>
        </p:nvSpPr>
        <p:spPr>
          <a:xfrm>
            <a:off x="25092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z üzemi földelés és a védőföldelés potenciáltere független, nincsenek összekötve!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77840" y="1176480"/>
          <a:ext cx="8717040" cy="71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176480"/>
                    <a:ext cx="8717040" cy="71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Szövegdoboz 1"/>
          <p:cNvSpPr/>
          <p:nvPr/>
        </p:nvSpPr>
        <p:spPr>
          <a:xfrm>
            <a:off x="395280" y="6237360"/>
            <a:ext cx="8497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A    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- földelési ellenállás , a földelő ellenállásának, a földelési szétterjedési ellenállásnak és a védővezető ellenállásának az összeg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246320" y="1270080"/>
          <a:ext cx="6852960" cy="53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1270080"/>
                    <a:ext cx="685296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Szövegdoboz 1"/>
          <p:cNvSpPr/>
          <p:nvPr/>
        </p:nvSpPr>
        <p:spPr>
          <a:xfrm>
            <a:off x="395280" y="6237360"/>
            <a:ext cx="8497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A    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- földelési ellenállás , a földelő ellenállásának, a földelési szétterjedési ellenállásnak és a védővezető ellenállásának az összeg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569880" y="1995480"/>
          <a:ext cx="8383680" cy="51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1995480"/>
                    <a:ext cx="8383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Szövegdoboz 2"/>
          <p:cNvSpPr/>
          <p:nvPr/>
        </p:nvSpPr>
        <p:spPr>
          <a:xfrm>
            <a:off x="179280" y="6381720"/>
            <a:ext cx="896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védőföldelés ellenállása döntő mértékben a szétterjedési ellenállás, a földelővezető és a földelő ellenállása elhanyagolható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Szövegdoboz 1"/>
          <p:cNvSpPr/>
          <p:nvPr/>
        </p:nvSpPr>
        <p:spPr>
          <a:xfrm>
            <a:off x="108000" y="134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Védőföldelés TT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469800" y="1550880"/>
          <a:ext cx="8383680" cy="60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550880"/>
                    <a:ext cx="8383680" cy="60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Szövegdoboz 2"/>
          <p:cNvSpPr/>
          <p:nvPr/>
        </p:nvSpPr>
        <p:spPr>
          <a:xfrm>
            <a:off x="179280" y="6381720"/>
            <a:ext cx="896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) Rúdföldelő b) vízszintes földelő c) gyűrűföldelő d) szalagföldelő e) keretföldelő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Szövegdoboz 1"/>
          <p:cNvSpPr/>
          <p:nvPr/>
        </p:nvSpPr>
        <p:spPr>
          <a:xfrm>
            <a:off x="108000" y="1197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Védőföldelés típuso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Szövegdoboz 1"/>
          <p:cNvSpPr/>
          <p:nvPr/>
        </p:nvSpPr>
        <p:spPr>
          <a:xfrm>
            <a:off x="1638360" y="6858000"/>
            <a:ext cx="5526000" cy="461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Szövegdoboz 2"/>
          <p:cNvSpPr/>
          <p:nvPr/>
        </p:nvSpPr>
        <p:spPr>
          <a:xfrm>
            <a:off x="2448000" y="59500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206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Szövegdoboz 9"/>
          <p:cNvSpPr/>
          <p:nvPr/>
        </p:nvSpPr>
        <p:spPr>
          <a:xfrm>
            <a:off x="5527800" y="59500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206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79440" y="1566720"/>
          <a:ext cx="8385120" cy="52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566720"/>
                    <a:ext cx="838512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T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Szövegdoboz 2"/>
          <p:cNvSpPr/>
          <p:nvPr/>
        </p:nvSpPr>
        <p:spPr>
          <a:xfrm>
            <a:off x="179280" y="6237360"/>
            <a:ext cx="896472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 védőföldelés ellenállása döntő mértékben a szétterjedési ellenállás, 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 földelővezető és a földelő ellenállása elhanyagolható </a:t>
            </a:r>
            <a:r>
              <a:rPr b="0" i="1" lang="hu-HU" sz="1800" spc="-1" strike="noStrike">
                <a:solidFill>
                  <a:srgbClr val="00b050"/>
                </a:solidFill>
                <a:latin typeface="Arial"/>
              </a:rPr>
              <a:t>R</a:t>
            </a:r>
            <a:r>
              <a:rPr b="0" i="1" lang="hu-HU" sz="1800" spc="-1" strike="noStrike" baseline="-25000">
                <a:solidFill>
                  <a:srgbClr val="00b05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b050"/>
                </a:solidFill>
                <a:latin typeface="Arial"/>
              </a:rPr>
              <a:t>≈R</a:t>
            </a:r>
            <a:r>
              <a:rPr b="0" i="1" lang="hu-HU" sz="1800" spc="-1" strike="noStrike" baseline="-25000">
                <a:solidFill>
                  <a:srgbClr val="00b050"/>
                </a:solidFill>
                <a:latin typeface="Arial"/>
              </a:rPr>
              <a:t>SZ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Szövegdoboz 1"/>
          <p:cNvSpPr/>
          <p:nvPr/>
        </p:nvSpPr>
        <p:spPr>
          <a:xfrm>
            <a:off x="108000" y="134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Védőföldelés TT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43:25Z</dcterms:created>
  <dc:creator>Güntner Attila</dc:creator>
  <dc:description/>
  <dc:language>en-US</dc:language>
  <cp:lastModifiedBy>KJ</cp:lastModifiedBy>
  <dcterms:modified xsi:type="dcterms:W3CDTF">2017-05-01T09:02:21Z</dcterms:modified>
  <cp:revision>236</cp:revision>
  <dc:subject/>
  <dc:title>CÍM</dc:title>
</cp:coreProperties>
</file>