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9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EF9-7F0E-4EC8-86D4-BE747005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8C3-C597-45DB-AADB-ED9FCC47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292-2956-4EC3-86D0-EC2554A2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770-789D-4CC5-A776-E60AE019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2D6-A366-492A-B330-44577812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A11-4905-48CA-9BCB-C71B9ABD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5F2-ADBA-4E3A-876F-C537A1BD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AE1-0291-4ADC-B414-56F2E39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D18-FA2B-46E5-98D1-5E7BD6BF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1D6-3758-4A10-8255-C956A75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67E-BADC-4030-8349-B64D0AFC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FA6-DDAC-4549-B787-4B5267CF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8428-6A4D-46BE-AD8B-C3EC9F51D295}" type="slidenum">
              <a:rPr b="0" lang="hu-HU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0" y="260280"/>
            <a:ext cx="6732720" cy="1873440"/>
          </a:xfrm>
          <a:prstGeom prst="roundRect">
            <a:avLst>
              <a:gd name="adj" fmla="val 7366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2" name="Picture 9" descr="logo_kicsi"/>
          <p:cNvPicPr/>
          <p:nvPr/>
        </p:nvPicPr>
        <p:blipFill>
          <a:blip r:embed="rId1"/>
          <a:stretch/>
        </p:blipFill>
        <p:spPr>
          <a:xfrm>
            <a:off x="328680" y="322200"/>
            <a:ext cx="2152440" cy="173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2987640" y="765000"/>
            <a:ext cx="345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Magya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Elektrotechnika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99"/>
                </a:solidFill>
                <a:latin typeface="MS Reference Sans Serif"/>
              </a:rPr>
              <a:t>Egyesül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208080" y="260280"/>
            <a:ext cx="0" cy="2664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5" name="Picture 16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191880" cy="1814760"/>
          </a:xfrm>
          <a:prstGeom prst="rect">
            <a:avLst/>
          </a:prstGeom>
          <a:ln w="0">
            <a:noFill/>
          </a:ln>
        </p:spPr>
      </p:pic>
      <p:sp>
        <p:nvSpPr>
          <p:cNvPr id="46" name="Line 17"/>
          <p:cNvSpPr/>
          <p:nvPr/>
        </p:nvSpPr>
        <p:spPr>
          <a:xfrm>
            <a:off x="208080" y="260280"/>
            <a:ext cx="45464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2484360" y="2205000"/>
            <a:ext cx="6262920" cy="2376360"/>
          </a:xfrm>
          <a:prstGeom prst="roundRect">
            <a:avLst>
              <a:gd name="adj" fmla="val 25292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2843280" y="2589120"/>
            <a:ext cx="56163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99"/>
                </a:solidFill>
                <a:latin typeface="Arial"/>
              </a:rPr>
              <a:t>Érintésvédelem 7. rész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Jegyzetcím: </a:t>
            </a:r>
            <a:r>
              <a:rPr b="1" lang="hu-HU" sz="2000" spc="-1" strike="noStrike">
                <a:solidFill>
                  <a:srgbClr val="00b050"/>
                </a:solidFill>
                <a:latin typeface="Arial"/>
              </a:rPr>
              <a:t>4. Kisfeszültségű rendszerek áramütés elleni védelm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fffff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AutoShape 28"/>
          <p:cNvSpPr/>
          <p:nvPr/>
        </p:nvSpPr>
        <p:spPr>
          <a:xfrm>
            <a:off x="3708360" y="5157720"/>
            <a:ext cx="5184720" cy="1295640"/>
          </a:xfrm>
          <a:prstGeom prst="roundRect">
            <a:avLst>
              <a:gd name="adj" fmla="val 25292"/>
            </a:avLst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4284720" y="5229360"/>
            <a:ext cx="417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assai Józse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ny. főiskolai doce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Szövegdoboz 1"/>
          <p:cNvSpPr/>
          <p:nvPr/>
        </p:nvSpPr>
        <p:spPr>
          <a:xfrm>
            <a:off x="250920" y="1341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TN-rendszer méretezés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Szövegdoboz 1"/>
          <p:cNvSpPr/>
          <p:nvPr/>
        </p:nvSpPr>
        <p:spPr>
          <a:xfrm>
            <a:off x="250920" y="1989000"/>
            <a:ext cx="878508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A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lang="hu-HU" sz="2400" spc="-1" strike="noStrike" baseline="-25000">
                <a:solidFill>
                  <a:srgbClr val="006699"/>
                </a:solidFill>
                <a:latin typeface="Arial"/>
              </a:rPr>
              <a:t>s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hurokimpedancia minimális értékének meghatározása: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          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s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∙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≤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,  ahol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s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– az úgynevezett hurokimpedancia, a testzárlati áramkör útjába eső valamennyi impedancia összege. (Szigetelt szabadvezeték hálózat, kábelhálózat, tokozott sínek és köpenyes vezetékek esetében a reaktancia elhanyagolásával, a hurokellenállással szoktak azonosnak venni)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- a kikapcsolást végző szervnek az előírt kikapcsolási időhöz tartozó kioldóáram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o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- a földelt vezető és az áramkör többi vezetői közti névleges feszültség (a fázis­feszültség, gyakorlatilag: 230 V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Szövegdoboz 1"/>
          <p:cNvSpPr/>
          <p:nvPr/>
        </p:nvSpPr>
        <p:spPr>
          <a:xfrm>
            <a:off x="250920" y="1527120"/>
            <a:ext cx="87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Testzárlati áramhurok: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Z</a:t>
            </a:r>
            <a:r>
              <a:rPr b="1" lang="hu-HU" sz="2400" spc="-1" strike="noStrike" baseline="-25000">
                <a:solidFill>
                  <a:srgbClr val="006699"/>
                </a:solidFill>
                <a:latin typeface="Arial"/>
              </a:rPr>
              <a:t>s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hurokimpedanci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3" name="Kép 5" descr="ÉVF100319007.jpg"/>
          <p:cNvPicPr/>
          <p:nvPr/>
        </p:nvPicPr>
        <p:blipFill>
          <a:blip r:embed="rId1"/>
          <a:stretch/>
        </p:blipFill>
        <p:spPr>
          <a:xfrm>
            <a:off x="568440" y="2205000"/>
            <a:ext cx="8007120" cy="396072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"/>
          <p:cNvSpPr/>
          <p:nvPr/>
        </p:nvSpPr>
        <p:spPr>
          <a:xfrm>
            <a:off x="3780000" y="5877000"/>
            <a:ext cx="3960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" name="Szövegdoboz 2"/>
          <p:cNvSpPr/>
          <p:nvPr/>
        </p:nvSpPr>
        <p:spPr>
          <a:xfrm>
            <a:off x="5470560" y="5827680"/>
            <a:ext cx="367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hu-HU" sz="1800" spc="-1" strike="noStrike" baseline="-25000">
                <a:solidFill>
                  <a:srgbClr val="006699"/>
                </a:solidFill>
                <a:latin typeface="Arial"/>
              </a:rPr>
              <a:t>v </a:t>
            </a: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= végponti földelés ellenállás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" name="Szövegdoboz 4"/>
          <p:cNvSpPr/>
          <p:nvPr/>
        </p:nvSpPr>
        <p:spPr>
          <a:xfrm>
            <a:off x="4932360" y="3645000"/>
            <a:ext cx="82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161616"/>
                </a:solidFill>
                <a:latin typeface="Arial"/>
              </a:rPr>
              <a:t>Z</a:t>
            </a:r>
            <a:r>
              <a:rPr b="1" lang="hu-HU" sz="1800" spc="-1" strike="noStrike" baseline="-25000">
                <a:solidFill>
                  <a:srgbClr val="16161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Szövegdoboz 5"/>
          <p:cNvSpPr/>
          <p:nvPr/>
        </p:nvSpPr>
        <p:spPr>
          <a:xfrm>
            <a:off x="4427640" y="364500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16161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" name="Szövegdoboz 6"/>
          <p:cNvSpPr/>
          <p:nvPr/>
        </p:nvSpPr>
        <p:spPr>
          <a:xfrm>
            <a:off x="4427640" y="2349360"/>
            <a:ext cx="504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161616"/>
                </a:solidFill>
                <a:latin typeface="Arial"/>
              </a:rPr>
              <a:t>L</a:t>
            </a:r>
            <a:r>
              <a:rPr b="1" lang="hu-HU" sz="1800" spc="-1" strike="noStrike" baseline="-25000">
                <a:solidFill>
                  <a:srgbClr val="16161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Szövegdoboz 9"/>
          <p:cNvSpPr/>
          <p:nvPr/>
        </p:nvSpPr>
        <p:spPr>
          <a:xfrm>
            <a:off x="4427640" y="2771640"/>
            <a:ext cx="504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161616"/>
                </a:solidFill>
                <a:latin typeface="Arial"/>
              </a:rPr>
              <a:t>L</a:t>
            </a:r>
            <a:r>
              <a:rPr b="1" lang="hu-HU" sz="1800" spc="-1" strike="noStrike" baseline="-25000">
                <a:solidFill>
                  <a:srgbClr val="16161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" name="Szövegdoboz 10"/>
          <p:cNvSpPr/>
          <p:nvPr/>
        </p:nvSpPr>
        <p:spPr>
          <a:xfrm>
            <a:off x="4427640" y="3203640"/>
            <a:ext cx="504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161616"/>
                </a:solidFill>
                <a:latin typeface="Arial"/>
              </a:rPr>
              <a:t>L</a:t>
            </a:r>
            <a:r>
              <a:rPr b="1" lang="hu-HU" sz="1800" spc="-1" strike="noStrike" baseline="-25000">
                <a:solidFill>
                  <a:srgbClr val="16161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Szövegdoboz 1"/>
          <p:cNvSpPr/>
          <p:nvPr/>
        </p:nvSpPr>
        <p:spPr>
          <a:xfrm>
            <a:off x="250920" y="1484280"/>
            <a:ext cx="8713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Olvadóbiztosító és kismegszakító esetén: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=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n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∙</a:t>
            </a:r>
            <a:r>
              <a:rPr b="1" i="1" lang="hu-HU" sz="2400" spc="-1" strike="noStrike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, áram-védőkapcsoló esetében az áram-védőkapcsoló névleges különbözeti kioldóárama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,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hu-HU" sz="2400" spc="-1" strike="noStrike" baseline="-25000">
                <a:solidFill>
                  <a:srgbClr val="006699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hu-HU" sz="24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1" lang="hu-HU" sz="2400" spc="-1" strike="noStrike" baseline="-25000">
                <a:solidFill>
                  <a:srgbClr val="006699"/>
                </a:solidFill>
                <a:latin typeface="Arial"/>
              </a:rPr>
              <a:t>Δ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, (A)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3" name="Kép 4" descr="ÉV lekapcsoló eszközök.jpg"/>
          <p:cNvPicPr/>
          <p:nvPr/>
        </p:nvPicPr>
        <p:blipFill>
          <a:blip r:embed="rId1"/>
          <a:stretch/>
        </p:blipFill>
        <p:spPr>
          <a:xfrm>
            <a:off x="179280" y="2606760"/>
            <a:ext cx="8739360" cy="4251240"/>
          </a:xfrm>
          <a:prstGeom prst="rect">
            <a:avLst/>
          </a:prstGeom>
          <a:ln w="0">
            <a:noFill/>
          </a:ln>
        </p:spPr>
      </p:pic>
      <p:sp>
        <p:nvSpPr>
          <p:cNvPr id="104" name="Szövegdoboz 2"/>
          <p:cNvSpPr/>
          <p:nvPr/>
        </p:nvSpPr>
        <p:spPr>
          <a:xfrm>
            <a:off x="395280" y="6093000"/>
            <a:ext cx="1297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6" name="Kép 4" descr="ÉV-kiodási szorzó.jpg"/>
          <p:cNvPicPr/>
          <p:nvPr/>
        </p:nvPicPr>
        <p:blipFill>
          <a:blip r:embed="rId1"/>
          <a:stretch/>
        </p:blipFill>
        <p:spPr>
          <a:xfrm>
            <a:off x="684360" y="2036880"/>
            <a:ext cx="7991280" cy="4200480"/>
          </a:xfrm>
          <a:prstGeom prst="rect">
            <a:avLst/>
          </a:prstGeom>
          <a:ln w="0">
            <a:noFill/>
          </a:ln>
        </p:spPr>
      </p:pic>
      <p:sp>
        <p:nvSpPr>
          <p:cNvPr id="107" name="Cím 1"/>
          <p:cNvSpPr/>
          <p:nvPr/>
        </p:nvSpPr>
        <p:spPr>
          <a:xfrm>
            <a:off x="179280" y="155736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Túláramvédelem: kiolvadási- vagy kioldási szorz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Szövegdoboz 1"/>
          <p:cNvSpPr/>
          <p:nvPr/>
        </p:nvSpPr>
        <p:spPr>
          <a:xfrm>
            <a:off x="108000" y="1197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TN-rendszer legfőbb veszély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4" descr="4"/>
          <p:cNvPicPr/>
          <p:nvPr/>
        </p:nvPicPr>
        <p:blipFill>
          <a:blip r:embed="rId1"/>
          <a:stretch/>
        </p:blipFill>
        <p:spPr>
          <a:xfrm>
            <a:off x="1476360" y="2911320"/>
            <a:ext cx="5786280" cy="3326040"/>
          </a:xfrm>
          <a:prstGeom prst="rect">
            <a:avLst/>
          </a:prstGeom>
          <a:ln w="0">
            <a:noFill/>
          </a:ln>
        </p:spPr>
      </p:pic>
      <p:sp>
        <p:nvSpPr>
          <p:cNvPr id="111" name="Szövegdoboz 3"/>
          <p:cNvSpPr/>
          <p:nvPr/>
        </p:nvSpPr>
        <p:spPr>
          <a:xfrm>
            <a:off x="179280" y="1557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PEN</a:t>
            </a:r>
            <a:r>
              <a:rPr b="0" i="1" lang="hu-HU" sz="2400" spc="-1" strike="noStrike">
                <a:solidFill>
                  <a:srgbClr val="ff0000"/>
                </a:solidFill>
                <a:latin typeface="Arial"/>
              </a:rPr>
              <a:t>-vezető szakadása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, mert egyetlen, egyfázisú, üzemben lévő fogyasztón keresztül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fázisfeszültség kerül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a szakadás utáni  védővezetőbe bekötött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testekre!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Szövegdoboz 4"/>
          <p:cNvSpPr/>
          <p:nvPr/>
        </p:nvSpPr>
        <p:spPr>
          <a:xfrm>
            <a:off x="324000" y="638172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Megjegyzés: Életveszély van, holott nincs is hibás(testzárlatos) készülék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Szövegdoboz 1"/>
          <p:cNvSpPr/>
          <p:nvPr/>
        </p:nvSpPr>
        <p:spPr>
          <a:xfrm>
            <a:off x="108000" y="1197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Rejtett nullázás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veszély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Szövegdoboz 3"/>
          <p:cNvSpPr/>
          <p:nvPr/>
        </p:nvSpPr>
        <p:spPr>
          <a:xfrm>
            <a:off x="179280" y="1557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Előfordulhat, hogy egy védőföldeléses (TT-rendszerű) hálózat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üzemi nullavezetője fémes zárlatba kerül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berendezésen belül kiépített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védőföldelő-hálózattal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vagy az e célra szolgáló fémes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csővezetékrendszerrel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. Ilyen esetben ezen a földzárlaton keresztül tulaj­donképpen egy nem kívánt nullázás alakul ki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Szövegdoboz 4"/>
          <p:cNvSpPr/>
          <p:nvPr/>
        </p:nvSpPr>
        <p:spPr>
          <a:xfrm>
            <a:off x="179280" y="63817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Megjegyzés: A rejtett nullázás megszüntetendő, mert az össze­kötés nem meg­bízható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979640" y="3408480"/>
            <a:ext cx="5400720" cy="282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569880" y="1627200"/>
          <a:ext cx="8431200" cy="49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1627200"/>
                    <a:ext cx="84312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69880" y="1627200"/>
          <a:ext cx="8431200" cy="49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1627200"/>
                    <a:ext cx="84312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Szövegdoboz 1"/>
          <p:cNvSpPr/>
          <p:nvPr/>
        </p:nvSpPr>
        <p:spPr>
          <a:xfrm>
            <a:off x="395280" y="1628640"/>
            <a:ext cx="115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648320" y="83664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(védővezető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16360" y="3860640"/>
          <a:ext cx="4464000" cy="2632320"/>
        </p:xfrm>
        <a:graphic>
          <a:graphicData uri="http://schemas.openxmlformats.org/drawingml/2006/table">
            <a:tbl>
              <a:tblPr/>
              <a:tblGrid>
                <a:gridCol w="2197080"/>
                <a:gridCol w="2266920"/>
              </a:tblGrid>
              <a:tr h="1084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 fázisvezető keresztmetszet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A védővezető keresztmetszet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810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 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16 mm</a:t>
                      </a:r>
                      <a:r>
                        <a:rPr b="0" lang="hu-HU" sz="1600" spc="-1" strike="noStrike" baseline="30000">
                          <a:solidFill>
                            <a:srgbClr val="0066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827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6 mm</a:t>
                      </a:r>
                      <a:r>
                        <a:rPr b="0" lang="hu-HU" sz="1600" spc="-1" strike="noStrike" baseline="30000">
                          <a:solidFill>
                            <a:srgbClr val="006699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S 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35 mm</a:t>
                      </a:r>
                      <a:r>
                        <a:rPr b="0" lang="hu-HU" sz="1600" spc="-1" strike="noStrike" baseline="30000">
                          <a:solidFill>
                            <a:srgbClr val="0066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6 mm</a:t>
                      </a:r>
                      <a:r>
                        <a:rPr b="0" lang="hu-HU" sz="1600" spc="-1" strike="noStrike" baseline="30000">
                          <a:solidFill>
                            <a:srgbClr val="0066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842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 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35 mm</a:t>
                      </a:r>
                      <a:r>
                        <a:rPr b="0" lang="hu-HU" sz="1600" spc="-1" strike="noStrike" baseline="30000">
                          <a:solidFill>
                            <a:srgbClr val="0066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r" pos="5724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/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32" name="Szövegdoboz 2"/>
          <p:cNvSpPr/>
          <p:nvPr/>
        </p:nvSpPr>
        <p:spPr>
          <a:xfrm>
            <a:off x="324000" y="134136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Védővezető kialakítás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Szövegdoboz 3"/>
          <p:cNvSpPr/>
          <p:nvPr/>
        </p:nvSpPr>
        <p:spPr>
          <a:xfrm>
            <a:off x="15840" y="186372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védővezető (PE) a korszerű berendezésekben szinte mindig a </a:t>
            </a: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tápvezeték egyik zöld/sárga színezésű ere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. Elvben a védővezető lehet csupasz vezető is, de azt csak abban az esetben szabad a szigetelt tápvezetékkel együtt vezetni, ha a nullavezető a szigetelt fázisvezetőkkel gyárilag van közös burkolatba helyezv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eresztmetszet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808200" y="1911240"/>
          <a:ext cx="7729200" cy="836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1911240"/>
                    <a:ext cx="7729200" cy="836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Szövegdoboz 1"/>
          <p:cNvSpPr/>
          <p:nvPr/>
        </p:nvSpPr>
        <p:spPr>
          <a:xfrm>
            <a:off x="2771640" y="6021360"/>
            <a:ext cx="3248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Szövegdoboz 2"/>
          <p:cNvSpPr/>
          <p:nvPr/>
        </p:nvSpPr>
        <p:spPr>
          <a:xfrm>
            <a:off x="324000" y="63817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z üzemi vezető földelési lehetőségei TN-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Szövegdoboz 7"/>
          <p:cNvSpPr/>
          <p:nvPr/>
        </p:nvSpPr>
        <p:spPr>
          <a:xfrm>
            <a:off x="324000" y="134136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Védővezető kialakítás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8320" y="83664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(védővezető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Szövegdoboz 1"/>
          <p:cNvSpPr/>
          <p:nvPr/>
        </p:nvSpPr>
        <p:spPr>
          <a:xfrm>
            <a:off x="685800" y="5877000"/>
            <a:ext cx="7846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Szövegdoboz 1"/>
          <p:cNvSpPr/>
          <p:nvPr/>
        </p:nvSpPr>
        <p:spPr>
          <a:xfrm>
            <a:off x="250920" y="1341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TN-rendszer kialakí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Szövegdoboz 1"/>
          <p:cNvSpPr/>
          <p:nvPr/>
        </p:nvSpPr>
        <p:spPr>
          <a:xfrm>
            <a:off x="324000" y="1916280"/>
            <a:ext cx="86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T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-rendszer megbízhatósága a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PE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- vagy a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PE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-vezető jó és hatásos földcsatlakozásától függ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Hazánkban az áramszolgáltatói hálózatok csaknem mindenütt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TN-C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-rendszerűe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özcélú vagy más táphálózat esetén a külső feltételek megfelelőségéért a táphálózat kezelője a felelő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2"/>
          <p:cNvSpPr/>
          <p:nvPr/>
        </p:nvSpPr>
        <p:spPr>
          <a:xfrm>
            <a:off x="4788000" y="907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99"/>
                </a:solidFill>
                <a:latin typeface="Arial"/>
              </a:rPr>
              <a:t>Előadás vé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140360" y="3471840"/>
            <a:ext cx="45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öszönöm a figyelmet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5" name="Picture 16" descr="megujulasi"/>
          <p:cNvPicPr/>
          <p:nvPr/>
        </p:nvPicPr>
        <p:blipFill>
          <a:blip r:embed="rId1"/>
          <a:stretch/>
        </p:blipFill>
        <p:spPr>
          <a:xfrm>
            <a:off x="324000" y="1341360"/>
            <a:ext cx="3346200" cy="47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Szövegdoboz 1"/>
          <p:cNvSpPr/>
          <p:nvPr/>
        </p:nvSpPr>
        <p:spPr>
          <a:xfrm>
            <a:off x="250920" y="1341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Külső feltételek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" name="Szövegdoboz 1"/>
          <p:cNvSpPr/>
          <p:nvPr/>
        </p:nvSpPr>
        <p:spPr>
          <a:xfrm>
            <a:off x="142920" y="1832040"/>
            <a:ext cx="900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z áramszolgáltató hálózatának kialakí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hálózat hurokimpedanciája olyan kis értékű legyen, hogy az előírt rövid időn belül  kioldja a túl­áramvédelme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közös védővezető és nullavezető (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PE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-vezető) mindig földpotenciálú, ezért a táphálózat csillagpontja,  és a PEN vezeték legalább 350 méterenként földelt.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fogyasztó csatlakozási pontjánál a közvetlenül földelt PEN-vezető minimális keresztmetszete 10 mm²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fémesen összefüggő hálózatról táplált, fázisonként 16 A-nél   nagyobb teljesítményű fogyasztó védőföldelése csak áram-védőkapcsolón keresztül lehetséges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Szövegdoboz 1"/>
          <p:cNvSpPr/>
          <p:nvPr/>
        </p:nvSpPr>
        <p:spPr>
          <a:xfrm>
            <a:off x="250920" y="1341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Belső feltételek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Szövegdoboz 1"/>
          <p:cNvSpPr/>
          <p:nvPr/>
        </p:nvSpPr>
        <p:spPr>
          <a:xfrm>
            <a:off x="142920" y="1832040"/>
            <a:ext cx="90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fogyasztó hálózatának kialakí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közcélú hálózat csatlakozó pontjánál a közvetlenül földelt nullavezető keresztmetszete legalább a fázis­vezetők keresztmetszetének fele, de minimum 10 mm²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fogyasztói hálózaton ki van alakítva az előírásos egyenpotenciálra hozás, és a fő földelőkapocs – méréssel igazolt – legfeljebb 10 Ω-os földe­lés­sel le van földelve, vagy be van kötve a betonalap-földelésb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z épületen belül minden berendezés (az áram-védőkapcsolással védetteké is) teste nullázva van. (Megjegyezzük, hogy az áram-védőkapcsolóval védett testeknél a védőföldelés is megengedett.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Szövegdoboz 1"/>
          <p:cNvSpPr/>
          <p:nvPr/>
        </p:nvSpPr>
        <p:spPr>
          <a:xfrm>
            <a:off x="250920" y="1341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TN-rendszer működés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Szövegdoboz 1"/>
          <p:cNvSpPr/>
          <p:nvPr/>
        </p:nvSpPr>
        <p:spPr>
          <a:xfrm>
            <a:off x="395280" y="1801800"/>
            <a:ext cx="8569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Szövegdoboz 2"/>
          <p:cNvSpPr/>
          <p:nvPr/>
        </p:nvSpPr>
        <p:spPr>
          <a:xfrm>
            <a:off x="250920" y="1986120"/>
            <a:ext cx="871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nullázás lényege, hogy a védendő berendezés testét a táphálózat közvetlenül földelt üzemi vezetőjével (PE) védővezetővel fémesen kötik össze, így a testzárlat egyfázisú fémes zárlat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hibaáram döntő mértékben nem a földön, hanem a fázis és védővezetőn, fémen keresztül záródi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tápfeszültség fémes hurkon ( transzformátor, fázisvezető védővezető) hajtja át az áramot, a kis hurokimpedancia miatt nagy zárlati áram alakul ki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nagy testzárlati áram hatására a túláramvédelem kiold, a hibavédelem aktív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539640" y="1190520"/>
          <a:ext cx="783756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0520"/>
                    <a:ext cx="783756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" name="Szövegdoboz 1"/>
          <p:cNvSpPr/>
          <p:nvPr/>
        </p:nvSpPr>
        <p:spPr>
          <a:xfrm>
            <a:off x="2771640" y="6021360"/>
            <a:ext cx="3248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Szövegdoboz 2"/>
          <p:cNvSpPr/>
          <p:nvPr/>
        </p:nvSpPr>
        <p:spPr>
          <a:xfrm>
            <a:off x="324000" y="63817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z üzemi vezető földelési lehetőségei TN-rendszerb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Szövegdoboz 1"/>
          <p:cNvSpPr/>
          <p:nvPr/>
        </p:nvSpPr>
        <p:spPr>
          <a:xfrm>
            <a:off x="250920" y="1341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PEN vezető kialakí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Szövegdoboz 1"/>
          <p:cNvSpPr/>
          <p:nvPr/>
        </p:nvSpPr>
        <p:spPr>
          <a:xfrm>
            <a:off x="250920" y="180180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Minimális keresztmetszete réz esetében 10 mm</a:t>
            </a:r>
            <a:r>
              <a:rPr b="0" lang="hu-HU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, alumínium vezetékként 16 mm</a:t>
            </a:r>
            <a:r>
              <a:rPr b="0" lang="hu-HU" sz="2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PEN-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vezetőbe nem szabad kapcsoló vagy leválasztó eszközt beépíteni, (lehet szerszámmal bontható köté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ötelező viszont a </a:t>
            </a:r>
            <a:r>
              <a:rPr b="1" lang="hu-HU" sz="2400" spc="-1" strike="noStrike">
                <a:solidFill>
                  <a:srgbClr val="006699"/>
                </a:solidFill>
                <a:latin typeface="Arial"/>
              </a:rPr>
              <a:t>PEN</a:t>
            </a: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-vezető megszakítására bontási lehetőséget beépíteni minden olyan helyen, ahol a hozzá tartozó fázisvezetők meg­sza­kít­ható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Színjelölése: zöld-sárga és a végein kékkel jelölt, vagy kék és a végein zöld-sárgával jelöl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Ha a PEN-vezetetőt egyszer PE-re és N-ra szétválasztották többé már nem egyesíthető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PEN és a PE vezető akárhány helyen földelhető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Szövegdoboz 2"/>
          <p:cNvSpPr/>
          <p:nvPr/>
        </p:nvSpPr>
        <p:spPr>
          <a:xfrm>
            <a:off x="324000" y="630864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Erősáramú vezető minimális keresztmetszete: réz 1,5 mm</a:t>
            </a:r>
            <a:r>
              <a:rPr b="0" lang="hu-HU" sz="1800" spc="-1" strike="noStrike" baseline="30000">
                <a:solidFill>
                  <a:srgbClr val="00b05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; alumínium 16 mm</a:t>
            </a:r>
            <a:r>
              <a:rPr b="0" lang="hu-HU" sz="1800" spc="-1" strike="noStrike" baseline="30000">
                <a:solidFill>
                  <a:srgbClr val="00b05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Szövegdoboz 1"/>
          <p:cNvSpPr/>
          <p:nvPr/>
        </p:nvSpPr>
        <p:spPr>
          <a:xfrm>
            <a:off x="144360" y="1197000"/>
            <a:ext cx="44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PEN→PE-N  </a:t>
            </a:r>
            <a:r>
              <a:rPr b="0" lang="hu-HU" sz="2200" spc="-1" strike="noStrike">
                <a:solidFill>
                  <a:srgbClr val="006699"/>
                </a:solidFill>
                <a:latin typeface="Arial"/>
              </a:rPr>
              <a:t>MSZ HD 60364-5-54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Szövegdoboz 4"/>
          <p:cNvSpPr/>
          <p:nvPr/>
        </p:nvSpPr>
        <p:spPr>
          <a:xfrm>
            <a:off x="324000" y="638172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Megjegyzés: N sínre csatlakoztatás is szabványos, de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nem javasolt</a:t>
            </a:r>
            <a:r>
              <a:rPr b="0" lang="hu-HU" sz="1800" spc="-1" strike="noStrike">
                <a:solidFill>
                  <a:srgbClr val="00b05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029120" y="3726000"/>
            <a:ext cx="5079960" cy="251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034240" cy="2451240"/>
          </a:xfrm>
          <a:prstGeom prst="rect">
            <a:avLst/>
          </a:prstGeom>
          <a:ln w="0">
            <a:noFill/>
          </a:ln>
        </p:spPr>
      </p:pic>
      <p:sp>
        <p:nvSpPr>
          <p:cNvPr id="81" name="Szövegdoboz 2"/>
          <p:cNvSpPr/>
          <p:nvPr/>
        </p:nvSpPr>
        <p:spPr>
          <a:xfrm>
            <a:off x="5573880" y="2013120"/>
            <a:ext cx="367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PEN javasolt szabványos szétválasztása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három sínes megoldá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Szövegdoboz 9"/>
          <p:cNvSpPr/>
          <p:nvPr/>
        </p:nvSpPr>
        <p:spPr>
          <a:xfrm>
            <a:off x="181080" y="4149720"/>
            <a:ext cx="38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PEN javasolt szabványos szétválasztása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két sínes megoldá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Szövegdoboz 5"/>
          <p:cNvSpPr/>
          <p:nvPr/>
        </p:nvSpPr>
        <p:spPr>
          <a:xfrm>
            <a:off x="3348000" y="458136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▬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Szövegdoboz 11"/>
          <p:cNvSpPr/>
          <p:nvPr/>
        </p:nvSpPr>
        <p:spPr>
          <a:xfrm>
            <a:off x="5067360" y="242100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99"/>
                </a:solidFill>
                <a:latin typeface="Arial"/>
              </a:rPr>
              <a:t>◄▬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43280" y="836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KiF áramütés elleni védelem </a:t>
            </a:r>
            <a:br>
              <a:rPr sz="2000"/>
            </a:br>
            <a:r>
              <a:rPr b="0" lang="hu-HU" sz="2000" spc="-1" strike="noStrike">
                <a:solidFill>
                  <a:srgbClr val="006699"/>
                </a:solidFill>
                <a:latin typeface="Arial"/>
              </a:rPr>
              <a:t>TN-rendsz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Szövegdoboz 1"/>
          <p:cNvSpPr/>
          <p:nvPr/>
        </p:nvSpPr>
        <p:spPr>
          <a:xfrm>
            <a:off x="250920" y="1341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99"/>
                </a:solidFill>
                <a:latin typeface="Arial"/>
              </a:rPr>
              <a:t>A PE vezető leágaztatás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7" name="Kép 4" descr="ÉV-PE-leágazás a PEN-ről.jpg"/>
          <p:cNvPicPr/>
          <p:nvPr/>
        </p:nvPicPr>
        <p:blipFill>
          <a:blip r:embed="rId1"/>
          <a:stretch/>
        </p:blipFill>
        <p:spPr>
          <a:xfrm>
            <a:off x="611280" y="2060640"/>
            <a:ext cx="7848360" cy="39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6:43:25Z</dcterms:created>
  <dc:creator>Güntner Attila</dc:creator>
  <dc:description/>
  <dc:language>en-US</dc:language>
  <cp:lastModifiedBy>KJ</cp:lastModifiedBy>
  <dcterms:modified xsi:type="dcterms:W3CDTF">2017-05-01T09:00:02Z</dcterms:modified>
  <cp:revision>184</cp:revision>
  <dc:subject/>
  <dc:title>CÍM</dc:title>
</cp:coreProperties>
</file>