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B56-4260-47D2-A9B7-9CA5AD8F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5D93-C6A2-43F4-ADBC-9B15E188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AA5-1F5C-4257-ABA5-11A23237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659-06DB-4AFD-B2AF-5F306F07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0C2-AE59-44BB-BE3F-E90EEC08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AB8-D5E1-4D9F-A41D-E220D4BF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B79-709E-4F4B-898D-E2B9B50C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8063-7E67-4551-9EA0-C4B19FF8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629-C480-4D2B-AB19-C5DC8466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F57-523F-4E6B-B96A-2D7CEB1F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F8B-DA47-4275-A3C8-79B5A3B7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7E4-0DF8-4108-A3D3-583D0DA4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394C-A146-470C-8FB1-EBB77ED1EF4C}" type="slidenum">
              <a:rPr b="0" lang="hu-HU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0" y="260280"/>
            <a:ext cx="6732720" cy="1873440"/>
          </a:xfrm>
          <a:prstGeom prst="roundRect">
            <a:avLst>
              <a:gd name="adj" fmla="val 7366"/>
            </a:avLst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2" name="Picture 9" descr="logo_kicsi"/>
          <p:cNvPicPr/>
          <p:nvPr/>
        </p:nvPicPr>
        <p:blipFill>
          <a:blip r:embed="rId1"/>
          <a:stretch/>
        </p:blipFill>
        <p:spPr>
          <a:xfrm>
            <a:off x="328680" y="322200"/>
            <a:ext cx="2152440" cy="1738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"/>
          <p:cNvSpPr/>
          <p:nvPr/>
        </p:nvSpPr>
        <p:spPr>
          <a:xfrm>
            <a:off x="2987640" y="765000"/>
            <a:ext cx="3457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MS Reference Sans Serif"/>
              </a:rPr>
              <a:t>Magya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MS Reference Sans Serif"/>
              </a:rPr>
              <a:t>Elektrotechnikai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MS Reference Sans Serif"/>
              </a:rPr>
              <a:t>Egyesüle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Line 11"/>
          <p:cNvSpPr/>
          <p:nvPr/>
        </p:nvSpPr>
        <p:spPr>
          <a:xfrm>
            <a:off x="208080" y="260280"/>
            <a:ext cx="0" cy="266400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5" name="Picture 16" descr=""/>
          <p:cNvPicPr/>
          <p:nvPr/>
        </p:nvPicPr>
        <p:blipFill>
          <a:blip r:embed="rId2"/>
          <a:stretch/>
        </p:blipFill>
        <p:spPr>
          <a:xfrm>
            <a:off x="2556000" y="260280"/>
            <a:ext cx="191880" cy="1814760"/>
          </a:xfrm>
          <a:prstGeom prst="rect">
            <a:avLst/>
          </a:prstGeom>
          <a:ln w="0">
            <a:noFill/>
          </a:ln>
        </p:spPr>
      </p:pic>
      <p:sp>
        <p:nvSpPr>
          <p:cNvPr id="46" name="Line 17"/>
          <p:cNvSpPr/>
          <p:nvPr/>
        </p:nvSpPr>
        <p:spPr>
          <a:xfrm>
            <a:off x="208080" y="260280"/>
            <a:ext cx="45464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AutoShape 13"/>
          <p:cNvSpPr/>
          <p:nvPr/>
        </p:nvSpPr>
        <p:spPr>
          <a:xfrm>
            <a:off x="2484360" y="2205000"/>
            <a:ext cx="6262920" cy="2376360"/>
          </a:xfrm>
          <a:prstGeom prst="roundRect">
            <a:avLst>
              <a:gd name="adj" fmla="val 25292"/>
            </a:avLst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2556000" y="2589120"/>
            <a:ext cx="611964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6699"/>
                </a:solidFill>
                <a:latin typeface="Arial"/>
              </a:rPr>
              <a:t>Érintésvédelem 8. rész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Jegyzetcím: </a:t>
            </a:r>
            <a:r>
              <a:rPr b="1" lang="hu-HU" sz="2000" spc="-1" strike="noStrike">
                <a:solidFill>
                  <a:srgbClr val="00b050"/>
                </a:solidFill>
                <a:latin typeface="Arial"/>
              </a:rPr>
              <a:t>4. Kisfeszültségű rendszerek </a:t>
            </a:r>
            <a:r>
              <a:rPr b="1" lang="hu-H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b050"/>
                </a:solidFill>
                <a:latin typeface="Arial"/>
              </a:rPr>
              <a:t>           áramütés elleni védelme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Kiegészítő védele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fffff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AutoShape 28"/>
          <p:cNvSpPr/>
          <p:nvPr/>
        </p:nvSpPr>
        <p:spPr>
          <a:xfrm>
            <a:off x="3708360" y="5157720"/>
            <a:ext cx="5184720" cy="1295640"/>
          </a:xfrm>
          <a:prstGeom prst="roundRect">
            <a:avLst>
              <a:gd name="adj" fmla="val 25292"/>
            </a:avLst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Text Box 30"/>
          <p:cNvSpPr/>
          <p:nvPr/>
        </p:nvSpPr>
        <p:spPr>
          <a:xfrm>
            <a:off x="4284720" y="5229360"/>
            <a:ext cx="4174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Kassai József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ny. főiskolai doce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106200" y="1627200"/>
          <a:ext cx="9037800" cy="72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1627200"/>
                    <a:ext cx="9037800" cy="72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Szövegdoboz 1"/>
          <p:cNvSpPr/>
          <p:nvPr/>
        </p:nvSpPr>
        <p:spPr>
          <a:xfrm>
            <a:off x="395280" y="1628640"/>
            <a:ext cx="1152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ÁVK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Téglalap 7"/>
          <p:cNvSpPr/>
          <p:nvPr/>
        </p:nvSpPr>
        <p:spPr>
          <a:xfrm>
            <a:off x="343440" y="1197000"/>
            <a:ext cx="41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ÁVK és PEN szakadás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" name="Szövegdoboz 2"/>
          <p:cNvSpPr/>
          <p:nvPr/>
        </p:nvSpPr>
        <p:spPr>
          <a:xfrm>
            <a:off x="1638360" y="6858000"/>
            <a:ext cx="5381640" cy="642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Szövegdoboz 3"/>
          <p:cNvSpPr/>
          <p:nvPr/>
        </p:nvSpPr>
        <p:spPr>
          <a:xfrm>
            <a:off x="395280" y="651672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ÁVK működésképtelen! ( Minden testen megemelkedett potenciál)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Szövegdoboz 1"/>
          <p:cNvSpPr/>
          <p:nvPr/>
        </p:nvSpPr>
        <p:spPr>
          <a:xfrm>
            <a:off x="2195640" y="7504200"/>
            <a:ext cx="5256000" cy="369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Szövegdoboz 4"/>
          <p:cNvSpPr/>
          <p:nvPr/>
        </p:nvSpPr>
        <p:spPr>
          <a:xfrm>
            <a:off x="2195640" y="407844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a3a3a"/>
                </a:solidFill>
                <a:latin typeface="Arial"/>
              </a:rPr>
              <a:t>Végponti földelés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EP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Téglalap 2"/>
          <p:cNvSpPr/>
          <p:nvPr/>
        </p:nvSpPr>
        <p:spPr>
          <a:xfrm>
            <a:off x="297000" y="119700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gyen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tenciálra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zá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Szövegdoboz 1"/>
          <p:cNvSpPr/>
          <p:nvPr/>
        </p:nvSpPr>
        <p:spPr>
          <a:xfrm>
            <a:off x="108000" y="1916280"/>
            <a:ext cx="90360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0000"/>
                </a:solidFill>
                <a:latin typeface="Arial"/>
              </a:rPr>
              <a:t>Kiegészítő védő egyenpotenciálú összekötés:</a:t>
            </a:r>
            <a:r>
              <a:rPr b="0" i="1" lang="hu-H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kiegészítő védő egyenpotenciálú összekötés a hibavédelem (közvetett érintés elleni védelem) kiegészítéseként van elfogadva</a:t>
            </a: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;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kiegészítő védő egyenpotenciálú összekötés kiterjedhet a teljes berendezésre, a berendezés egy részére egy gyártmányra vagy egy helyiség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Különleges helyiségek esetében (lásd az MSZ  HD 60364 szabvány megfelelő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7. rész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ét) további követelményekre lehet szükség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EP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Téglalap 2"/>
          <p:cNvSpPr/>
          <p:nvPr/>
        </p:nvSpPr>
        <p:spPr>
          <a:xfrm>
            <a:off x="297000" y="119700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gyen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tenciálra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zá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Szövegdoboz 1"/>
          <p:cNvSpPr/>
          <p:nvPr/>
        </p:nvSpPr>
        <p:spPr>
          <a:xfrm>
            <a:off x="108000" y="1909800"/>
            <a:ext cx="90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0000"/>
                </a:solidFill>
                <a:latin typeface="Arial"/>
              </a:rPr>
              <a:t>Kiegészítő védő egyenpotenciálú összekötés kialakítása:</a:t>
            </a:r>
            <a:r>
              <a:rPr b="0" i="1" lang="hu-H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 kiegészítő védő egyenpotenciálú összekötésbe be kell kötni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védővezetővel az összes villamos szerkezet védő- csatlakozókapcsát, köztük a csatlakozóaljzatok védőérintkezőit,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 rögzített szerkezetek összes egyidejűleg érinthető testeit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z idegen vezetőképes részeket, beleértve a vasbeton szerkezetek acélbetétjét is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EP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Téglalap 2"/>
          <p:cNvSpPr/>
          <p:nvPr/>
        </p:nvSpPr>
        <p:spPr>
          <a:xfrm>
            <a:off x="297000" y="119700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gyen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tenciálra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zá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Szövegdoboz 1"/>
          <p:cNvSpPr/>
          <p:nvPr/>
        </p:nvSpPr>
        <p:spPr>
          <a:xfrm>
            <a:off x="108000" y="1557360"/>
            <a:ext cx="90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Védő egyenpotenciálra hozó vezetők a fő földelő-kapocshoz vagy –sínhez való csatlakoztatásra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z EPH-gerincvezető az a vezető, amely közvetlenül a fő földelő kapocshoz csatlakozik, s amelyről így akár több leágazó vezető is indulhat. Az EPH-vezetők célja csupán a potenciálrögzítés, így elvben egyáltalán nem vezetnek áramot, mégis a gerincvezetők méretezésénél a szabvány feltételezi azt a lehetőséget, hogy számos idegen fémszerkezetet összekötvén, rajta — bár ez nem célja — számottevő kiegyenlítő áram is haladhat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EP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Téglalap 2"/>
          <p:cNvSpPr/>
          <p:nvPr/>
        </p:nvSpPr>
        <p:spPr>
          <a:xfrm>
            <a:off x="297000" y="119700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gyen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tenciálra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zá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" name="Szövegdoboz 1"/>
          <p:cNvSpPr/>
          <p:nvPr/>
        </p:nvSpPr>
        <p:spPr>
          <a:xfrm>
            <a:off x="108000" y="1998720"/>
            <a:ext cx="9036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Védő egyenpotenciálra hozó vezetők kialakítása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 védő egyenpotenciálú összekötéshez használt, és a fő földelőkapocshoz vagy -sínhez csatlakozó védő egyenpotenciálra hozó vezetők (EPH-gerincvezetők) keresztmetszete nem lehet kisebb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réz esetén 6 mm</a:t>
            </a:r>
            <a:r>
              <a:rPr b="0" lang="hu-HU" sz="28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-nél, va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lumínium esetén 16 mm</a:t>
            </a:r>
            <a:r>
              <a:rPr b="0" lang="hu-HU" sz="28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-nél, va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cél esetén 50 mm</a:t>
            </a:r>
            <a:r>
              <a:rPr b="0" lang="hu-HU" sz="28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-nél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EP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Téglalap 2"/>
          <p:cNvSpPr/>
          <p:nvPr/>
        </p:nvSpPr>
        <p:spPr>
          <a:xfrm>
            <a:off x="297000" y="119700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gyen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tenciálra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zá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Szövegdoboz 1"/>
          <p:cNvSpPr/>
          <p:nvPr/>
        </p:nvSpPr>
        <p:spPr>
          <a:xfrm>
            <a:off x="108000" y="1773360"/>
            <a:ext cx="9036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Védő egyenpotenciálra hozó vezetők (EPH-gerinc-vezetők) lehetnek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külön e célra létesített zöld/sárga színjelölésű külön szerelt laposvas vagy egyeres szigetelt vezetékek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z érintésvédelemi védővezetőnek az elosztók közötti szakaszai (amelyek tehát közvetlenül nem csatlakoznak testhez)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ipari technológiai berendezéseknél nagyméretű, fémesen összefüggő (megbontásra soha nem kerülő) fém vázszerkezetek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EP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Téglalap 2"/>
          <p:cNvSpPr/>
          <p:nvPr/>
        </p:nvSpPr>
        <p:spPr>
          <a:xfrm>
            <a:off x="297000" y="119700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gyen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tenciálra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zá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" name="Szövegdoboz 1"/>
          <p:cNvSpPr/>
          <p:nvPr/>
        </p:nvSpPr>
        <p:spPr>
          <a:xfrm>
            <a:off x="95400" y="1569960"/>
            <a:ext cx="903744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0000"/>
                </a:solidFill>
                <a:latin typeface="Arial"/>
              </a:rPr>
              <a:t>Kiegészítő védő egyenpotenciálú összekötés kialakítása:</a:t>
            </a:r>
            <a:r>
              <a:rPr b="0" i="1" lang="hu-H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Helyi (kiegészítő) egyenpotenciálra hozó vezetőkre is vonatkoznak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védővezetők mechanikai ellenálló képesség szempontjából meghatározott keresztmetszeti előírásai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 kiegészítő egyenpotenciálra hozó vezető minimális keresztmetszet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lumínium vezető esetében 16 mm</a:t>
            </a:r>
            <a:r>
              <a:rPr b="0" lang="hu-HU" sz="28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rézvezetőr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mechanikai védelemmel ellátott esetre 2,5 mm</a:t>
            </a:r>
            <a:r>
              <a:rPr b="0" lang="hu-HU" sz="28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mechanikai védelem nélkül 4 mm</a:t>
            </a:r>
            <a:r>
              <a:rPr b="0" lang="hu-HU" sz="28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EP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Téglalap 2"/>
          <p:cNvSpPr/>
          <p:nvPr/>
        </p:nvSpPr>
        <p:spPr>
          <a:xfrm>
            <a:off x="297000" y="119700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gyen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tenciálra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zá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Szövegdoboz 1"/>
          <p:cNvSpPr/>
          <p:nvPr/>
        </p:nvSpPr>
        <p:spPr>
          <a:xfrm>
            <a:off x="125280" y="1557360"/>
            <a:ext cx="903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Sem védővezetőként, sem védő egyenpotenciálra hozó vezetőként nem alkalmazhatók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fém vízcsövek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éghető gázokat, vagy folyadékokat tartalmazó csövek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normál üzemben mechanikai igénybevételnek kitett szerkezeti részek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hajlékony, vagy hajlítható fém védőcsövek, ha azokat nem ilyen célra tervezték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hajlékony fémrészek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tartóhuzalok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kábeltálcák vagy kábellétrák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104760" y="1557360"/>
          <a:ext cx="7345440" cy="53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1557360"/>
                    <a:ext cx="7345440" cy="53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Szövegdoboz 1"/>
          <p:cNvSpPr/>
          <p:nvPr/>
        </p:nvSpPr>
        <p:spPr>
          <a:xfrm>
            <a:off x="395280" y="1628640"/>
            <a:ext cx="1152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EP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Téglalap 7"/>
          <p:cNvSpPr/>
          <p:nvPr/>
        </p:nvSpPr>
        <p:spPr>
          <a:xfrm>
            <a:off x="297000" y="119700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gyen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tenciálra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zá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Téglalap 1"/>
          <p:cNvSpPr/>
          <p:nvPr/>
        </p:nvSpPr>
        <p:spPr>
          <a:xfrm>
            <a:off x="1187280" y="1814400"/>
            <a:ext cx="50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0000"/>
                </a:solidFill>
                <a:latin typeface="Arial"/>
              </a:rPr>
              <a:t>Kiegészítő védő egyenpotenciálú összekötés kialakítása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Szövegdoboz 2"/>
          <p:cNvSpPr/>
          <p:nvPr/>
        </p:nvSpPr>
        <p:spPr>
          <a:xfrm>
            <a:off x="7093080" y="1814400"/>
            <a:ext cx="205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Védővezető</a:t>
            </a:r>
            <a:br>
              <a:rPr sz="1800"/>
            </a:b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Védő egyenpotenciálra hozó vezető</a:t>
            </a:r>
            <a:br>
              <a:rPr sz="1800"/>
            </a:b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Védő egyenpo-tenciálra hozó vezető kiegészítő egyenpotenciálú összekötéshez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Villámvédelmi berendezés(LPS) levezető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Földelővezető</a:t>
            </a: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Szövegdoboz 3"/>
          <p:cNvSpPr/>
          <p:nvPr/>
        </p:nvSpPr>
        <p:spPr>
          <a:xfrm>
            <a:off x="7093080" y="5589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1 Közös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PE-EPH vezető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104760" y="1557360"/>
          <a:ext cx="5330880" cy="53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1557360"/>
                    <a:ext cx="5330880" cy="53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Szövegdoboz 1"/>
          <p:cNvSpPr/>
          <p:nvPr/>
        </p:nvSpPr>
        <p:spPr>
          <a:xfrm>
            <a:off x="395280" y="1628640"/>
            <a:ext cx="1152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EP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Téglalap 7"/>
          <p:cNvSpPr/>
          <p:nvPr/>
        </p:nvSpPr>
        <p:spPr>
          <a:xfrm>
            <a:off x="297000" y="119700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gyen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tenciálra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zá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Téglalap 1"/>
          <p:cNvSpPr/>
          <p:nvPr/>
        </p:nvSpPr>
        <p:spPr>
          <a:xfrm>
            <a:off x="685800" y="1814400"/>
            <a:ext cx="41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0000"/>
                </a:solidFill>
                <a:latin typeface="Arial"/>
              </a:rPr>
              <a:t>Kiegészítő védő egyenpotenciálú összekötés kialakítása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" name="Szövegdoboz 2"/>
          <p:cNvSpPr/>
          <p:nvPr/>
        </p:nvSpPr>
        <p:spPr>
          <a:xfrm>
            <a:off x="5148360" y="1814400"/>
            <a:ext cx="399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Az emeleti elosztó közös PE-EPH sínjére a fő földelősín felöl érkező 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védővezető 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egyszerre látja el a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PE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vezetői és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EPH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vezetői feladatot, azaz hibaáramot is vezet és egyenpotenciálra is hoz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Ezért a védővezető fogalmát gyűjtőfogalommá bővítették és a PE vezetőn kívül beletartozik az összes biztonság céljából létesített vezető: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PE vezető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PEN vezető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védő egyenpotenciálra hozó vezető /EPH/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kiegészítő védő egyenpotenciálra hozó vezető /helyi EPH/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Szövegdoboz 3"/>
          <p:cNvSpPr/>
          <p:nvPr/>
        </p:nvSpPr>
        <p:spPr>
          <a:xfrm>
            <a:off x="6156360" y="6216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1 Közös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PE-EPH vezető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ÁVK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" name="Szövegdoboz 1"/>
          <p:cNvSpPr/>
          <p:nvPr/>
        </p:nvSpPr>
        <p:spPr>
          <a:xfrm>
            <a:off x="574560" y="2697120"/>
            <a:ext cx="813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Áram-védőkapcsoló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 alkalmazásával 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kiegészítő védelmet</a:t>
            </a: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 kell alkalmazni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 legfeljebb 20 A-es dugaszolóaljzatoknál a váltakozó áramú rendszerekben minden esetben, amikor képzetlen személyek is kezelhetik a berendezést, és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a legfeljebb 32 A-es szabadtéri mobil fogyasztó készülékek esetébe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Szövegdoboz 2"/>
          <p:cNvSpPr/>
          <p:nvPr/>
        </p:nvSpPr>
        <p:spPr>
          <a:xfrm>
            <a:off x="574560" y="1557360"/>
            <a:ext cx="80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c00000"/>
                </a:solidFill>
                <a:latin typeface="Arial"/>
              </a:rPr>
              <a:t>A kiegészítő védelem  védelmet nyújt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00000"/>
                </a:solidFill>
                <a:latin typeface="Arial"/>
              </a:rPr>
              <a:t>áramütés elleni védelem meghibásodása vagy gondatlan kezelés esetében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" name="Téglalap 2"/>
          <p:cNvSpPr/>
          <p:nvPr/>
        </p:nvSpPr>
        <p:spPr>
          <a:xfrm>
            <a:off x="137520" y="1197000"/>
            <a:ext cx="46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Áram-védőkapcsoló (RC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Szövegdoboz 3"/>
          <p:cNvSpPr/>
          <p:nvPr/>
        </p:nvSpPr>
        <p:spPr>
          <a:xfrm>
            <a:off x="179280" y="6237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Kivétel tehető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: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szakemberek felügyelete alatt használt csatlakozóaljzatok esetében, vagy 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               egy sajátos fogyasztókészülék csatlakozóaljzata esetében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1033560" y="1627200"/>
          <a:ext cx="7113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560" y="1627200"/>
                    <a:ext cx="7113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Szövegdoboz 1"/>
          <p:cNvSpPr/>
          <p:nvPr/>
        </p:nvSpPr>
        <p:spPr>
          <a:xfrm>
            <a:off x="395280" y="1628640"/>
            <a:ext cx="1152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EP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Téglalap 7"/>
          <p:cNvSpPr/>
          <p:nvPr/>
        </p:nvSpPr>
        <p:spPr>
          <a:xfrm>
            <a:off x="297000" y="119700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gyen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tenciálra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ozá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Téglalap 1"/>
          <p:cNvSpPr/>
          <p:nvPr/>
        </p:nvSpPr>
        <p:spPr>
          <a:xfrm>
            <a:off x="179280" y="18144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0000"/>
                </a:solidFill>
                <a:latin typeface="Arial"/>
              </a:rPr>
              <a:t>Kiegészítő védő egyenpotenciálú összekötés méretezés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2"/>
          <p:cNvSpPr/>
          <p:nvPr/>
        </p:nvSpPr>
        <p:spPr>
          <a:xfrm>
            <a:off x="4788000" y="9079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Előadás vé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4140360" y="3471840"/>
            <a:ext cx="45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Köszönöm a figyelmet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0" name="Picture 16" descr="megujulasi"/>
          <p:cNvPicPr/>
          <p:nvPr/>
        </p:nvPicPr>
        <p:blipFill>
          <a:blip r:embed="rId1"/>
          <a:stretch/>
        </p:blipFill>
        <p:spPr>
          <a:xfrm>
            <a:off x="324000" y="1341360"/>
            <a:ext cx="3346200" cy="475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ÁVK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Téglalap 2"/>
          <p:cNvSpPr/>
          <p:nvPr/>
        </p:nvSpPr>
        <p:spPr>
          <a:xfrm>
            <a:off x="137520" y="1197000"/>
            <a:ext cx="46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Áram-védőkapcsoló (RC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9" name="Picture 2" descr="19"/>
          <p:cNvPicPr/>
          <p:nvPr/>
        </p:nvPicPr>
        <p:blipFill>
          <a:blip r:embed="rId1"/>
          <a:srcRect l="10659" t="2118" r="0" b="10021"/>
          <a:stretch/>
        </p:blipFill>
        <p:spPr>
          <a:xfrm>
            <a:off x="468360" y="1708200"/>
            <a:ext cx="3672000" cy="4373640"/>
          </a:xfrm>
          <a:prstGeom prst="rect">
            <a:avLst/>
          </a:prstGeom>
          <a:ln w="0">
            <a:noFill/>
          </a:ln>
        </p:spPr>
      </p:pic>
      <p:sp>
        <p:nvSpPr>
          <p:cNvPr id="60" name="Szövegdoboz 3"/>
          <p:cNvSpPr/>
          <p:nvPr/>
        </p:nvSpPr>
        <p:spPr>
          <a:xfrm>
            <a:off x="4356000" y="1844640"/>
            <a:ext cx="453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Kialakítása TN-S-rendszerbe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K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: az áram-védőkapcsoló   kapcsolójának hajtókarja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T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: próba(teszt)gomb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R: 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ellenőrző áramkör ellenállása,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M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: védendő berendezés, pl. villamos motor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L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:  lámpa jele, egyfázisú fogyasztót jelképez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" name="Szövegdoboz 4"/>
          <p:cNvSpPr/>
          <p:nvPr/>
        </p:nvSpPr>
        <p:spPr>
          <a:xfrm>
            <a:off x="247824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a3a3a"/>
                </a:solidFill>
                <a:latin typeface="Arial Black"/>
              </a:rPr>
              <a:t>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Szövegdoboz 5"/>
          <p:cNvSpPr/>
          <p:nvPr/>
        </p:nvSpPr>
        <p:spPr>
          <a:xfrm>
            <a:off x="250920" y="4767120"/>
            <a:ext cx="649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a3a3a"/>
                </a:solidFill>
                <a:latin typeface="Arial Black"/>
              </a:rPr>
              <a:t>P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Szövegdoboz 6"/>
          <p:cNvSpPr/>
          <p:nvPr/>
        </p:nvSpPr>
        <p:spPr>
          <a:xfrm>
            <a:off x="1258920" y="49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a3a3a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ÁVK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Téglalap 2"/>
          <p:cNvSpPr/>
          <p:nvPr/>
        </p:nvSpPr>
        <p:spPr>
          <a:xfrm>
            <a:off x="137520" y="1197000"/>
            <a:ext cx="46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Áram-védőkapcsoló (RC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6" name="Picture 2" descr="19"/>
          <p:cNvPicPr/>
          <p:nvPr/>
        </p:nvPicPr>
        <p:blipFill>
          <a:blip r:embed="rId1"/>
          <a:srcRect l="10659" t="2118" r="0" b="10021"/>
          <a:stretch/>
        </p:blipFill>
        <p:spPr>
          <a:xfrm>
            <a:off x="468360" y="1708200"/>
            <a:ext cx="3672000" cy="4373640"/>
          </a:xfrm>
          <a:prstGeom prst="rect">
            <a:avLst/>
          </a:prstGeom>
          <a:ln w="0">
            <a:noFill/>
          </a:ln>
        </p:spPr>
      </p:pic>
      <p:sp>
        <p:nvSpPr>
          <p:cNvPr id="67" name="Szövegdoboz 4"/>
          <p:cNvSpPr/>
          <p:nvPr/>
        </p:nvSpPr>
        <p:spPr>
          <a:xfrm>
            <a:off x="247824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a3a3a"/>
                </a:solidFill>
                <a:latin typeface="Arial Black"/>
              </a:rPr>
              <a:t>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Szövegdoboz 5"/>
          <p:cNvSpPr/>
          <p:nvPr/>
        </p:nvSpPr>
        <p:spPr>
          <a:xfrm>
            <a:off x="250920" y="4767120"/>
            <a:ext cx="649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a3a3a"/>
                </a:solidFill>
                <a:latin typeface="Arial Black"/>
              </a:rPr>
              <a:t>P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Szövegdoboz 6"/>
          <p:cNvSpPr/>
          <p:nvPr/>
        </p:nvSpPr>
        <p:spPr>
          <a:xfrm>
            <a:off x="1258920" y="49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a3a3a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" name="Szövegdoboz 8"/>
          <p:cNvSpPr/>
          <p:nvPr/>
        </p:nvSpPr>
        <p:spPr>
          <a:xfrm>
            <a:off x="4140360" y="1700280"/>
            <a:ext cx="500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Működési elv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Érzékelő része egy összegző áramváltó, amelynek vasmagján minden üzemi áramvezető áthalad.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De a PE vezető nem! 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vasmagon elhelyezett szekunder tekercs normál üzemben gerjesztetlen. Testzárlat esetén a hibaárammal azonos nagyságú gerjesztés a tekercsben  feszültséget indukál, a hatására folyó áram működteti a kapcsoló kioldó szerkezetét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Szövegdoboz 1"/>
          <p:cNvSpPr/>
          <p:nvPr/>
        </p:nvSpPr>
        <p:spPr>
          <a:xfrm>
            <a:off x="250920" y="63086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Gerjesztés: A vasmagon átfolyó áramok eredője!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ÁVK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Téglalap 2"/>
          <p:cNvSpPr/>
          <p:nvPr/>
        </p:nvSpPr>
        <p:spPr>
          <a:xfrm>
            <a:off x="137520" y="1197000"/>
            <a:ext cx="46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Áram-védőkapcsoló (RC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Szövegdoboz 1"/>
          <p:cNvSpPr/>
          <p:nvPr/>
        </p:nvSpPr>
        <p:spPr>
          <a:xfrm>
            <a:off x="108000" y="1814400"/>
            <a:ext cx="9036000" cy="45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0000"/>
                </a:solidFill>
                <a:latin typeface="Arial"/>
              </a:rPr>
              <a:t>A kikapcsolás feltétele: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Lekapcsol, ha a különbözeti áram nagyobb, mint a néveges kioldóáram (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Arial"/>
              </a:rPr>
              <a:t>Δn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Nem működik, ha a különbözeti áram kisebb, mint a néveges kioldóáram fele (0,5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Arial"/>
              </a:rPr>
              <a:t>Δn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gyártási pontatlanság miatti tényleges kioldóáram (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Arial"/>
              </a:rPr>
              <a:t>Δ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) sávja:   0,5∙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Arial"/>
              </a:rPr>
              <a:t>Δn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 &lt; 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Arial"/>
              </a:rPr>
              <a:t>Δ 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 ≤ 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Arial"/>
              </a:rPr>
              <a:t>Δn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00000"/>
                </a:solidFill>
                <a:latin typeface="Arial"/>
              </a:rPr>
              <a:t>Működőképesség ellenőrzés: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„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T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” próbagomb megnyomása egy „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” ellenálláson keresztül egy a vasmagot megkerülő áramot hoz létre, hatására az ÁVK megszakítja az áramkört! 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Szövegdoboz 7"/>
          <p:cNvSpPr/>
          <p:nvPr/>
        </p:nvSpPr>
        <p:spPr>
          <a:xfrm>
            <a:off x="179280" y="6237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A pró­ba­gombos működtetés csak magát az ÁVK-t ellenőrzi, de sem a védővezető folytonosságát, sem a védőföldelés épségét és helyes kialakítását nem vizsgálja!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ÁVK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" name="Téglalap 2"/>
          <p:cNvSpPr/>
          <p:nvPr/>
        </p:nvSpPr>
        <p:spPr>
          <a:xfrm>
            <a:off x="137520" y="1197000"/>
            <a:ext cx="46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Áram-védőkapcsoló (RC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" name="Szövegdoboz 1"/>
          <p:cNvSpPr/>
          <p:nvPr/>
        </p:nvSpPr>
        <p:spPr>
          <a:xfrm>
            <a:off x="108000" y="1814400"/>
            <a:ext cx="90360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0000"/>
                </a:solidFill>
                <a:latin typeface="Arial"/>
              </a:rPr>
              <a:t>Kiviteli változatai: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Beépített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túláramvédelem nélküli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védőkapcsoló (angol nyelvű rövidítése: 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RCCB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), szabványa: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MSZ EN 61008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Beépített</a:t>
            </a: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túláramvédelemmel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felszerelt védőkapcsoló (angol nyelvű rövidítése: 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RCBO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), szabványa: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MSZ EN 61009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Hordozható </a:t>
            </a: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kivitelű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áram-védőkapcsolós készülékek, beépített túláramvédelem nélkül, háztartási és hasonló célokra (angol nyelvű rövidítése: 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PRCD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), szabványa:                        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MSZ HD 639 S1</a:t>
            </a: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.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Ezek a kapcsolók általában dugaszolható kivitelben készülnek (háztartási csatlakozó aljzatba helyezhetők és ugyanilyen csatlakozó aljzattal vannak ellátva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ÁVK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Téglalap 2"/>
          <p:cNvSpPr/>
          <p:nvPr/>
        </p:nvSpPr>
        <p:spPr>
          <a:xfrm>
            <a:off x="137520" y="1197000"/>
            <a:ext cx="46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Áram-védőkapcsoló (RC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Szövegdoboz 1"/>
          <p:cNvSpPr/>
          <p:nvPr/>
        </p:nvSpPr>
        <p:spPr>
          <a:xfrm>
            <a:off x="108000" y="1814400"/>
            <a:ext cx="9036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0000"/>
                </a:solidFill>
                <a:latin typeface="Arial"/>
              </a:rPr>
              <a:t>Nem javasolt kiviteli változatai:</a:t>
            </a: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Egypólusú</a:t>
            </a: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 áram-védőkapcsoló: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Olyan egy modul szélességű áram-védőkapcsoló, amely </a:t>
            </a: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csak a fázisvezetőt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szakítja meg, a </a:t>
            </a: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nullavezetőt nem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Működtető</a:t>
            </a: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feszültségtől függő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áram-védőkapcsoló:</a:t>
            </a:r>
            <a:br>
              <a:rPr sz="2400"/>
            </a:b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feszültségtől függő működésű áram-védőkapcsoló alapvető problémája az, hogy az </a:t>
            </a: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előttük történt nullavezető szakadás esetén nem működik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ÁVK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Téglalap 2"/>
          <p:cNvSpPr/>
          <p:nvPr/>
        </p:nvSpPr>
        <p:spPr>
          <a:xfrm>
            <a:off x="137520" y="1197000"/>
            <a:ext cx="46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99"/>
                </a:solidFill>
                <a:latin typeface="Arial"/>
              </a:rPr>
              <a:t>Áram-védőkapcsoló (RC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Szövegdoboz 1"/>
          <p:cNvSpPr/>
          <p:nvPr/>
        </p:nvSpPr>
        <p:spPr>
          <a:xfrm>
            <a:off x="108000" y="1814400"/>
            <a:ext cx="9036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0000"/>
                </a:solidFill>
                <a:latin typeface="Arial"/>
              </a:rPr>
              <a:t>Kiviteli változatai kioldási idő szerint: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Pillanat kioldású</a:t>
            </a: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 áram-védőkapcsoló;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Időkésleltetésű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 „S”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típusú (a pillanatkioldásúhoz szelektív)</a:t>
            </a: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 áram-védőkapcsoló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0000"/>
                </a:solidFill>
                <a:latin typeface="Arial"/>
              </a:rPr>
              <a:t>Kiviteli változatai érzékelt áramalak szempontjából: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„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AC” típusú</a:t>
            </a: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amely a szinuszos váltakozó áramú különbözeti áramra old ki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„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A” típusú</a:t>
            </a: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, 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mely szinuszos váltakozó áramú különbözeti áramon kívül a lüktető egyenáramú különbözeti áramra is kiol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 „B” típusú</a:t>
            </a:r>
            <a:r>
              <a:rPr b="0" i="1" lang="hu-HU" sz="2400" spc="-1" strike="noStrike">
                <a:solidFill>
                  <a:srgbClr val="006699"/>
                </a:solidFill>
                <a:latin typeface="Arial"/>
              </a:rPr>
              <a:t>, 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áram-védőkapcsoló, amely egyenáramú és váltakozó áramú különbözeti áramra egyaránt érzéken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Szövegdoboz 3"/>
          <p:cNvSpPr/>
          <p:nvPr/>
        </p:nvSpPr>
        <p:spPr>
          <a:xfrm>
            <a:off x="250920" y="634032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b050"/>
                </a:solidFill>
                <a:latin typeface="Arial"/>
              </a:rPr>
              <a:t>Érzékelt áramalak szerinti jelek:  </a:t>
            </a:r>
            <a:r>
              <a:rPr b="1" lang="hu-HU" sz="2000" spc="-1" strike="noStrike">
                <a:solidFill>
                  <a:srgbClr val="00b050"/>
                </a:solidFill>
                <a:latin typeface="Arial"/>
              </a:rPr>
              <a:t>AC</a:t>
            </a:r>
            <a:r>
              <a:rPr b="0" lang="hu-HU" sz="2000" spc="-1" strike="noStrike">
                <a:solidFill>
                  <a:srgbClr val="00b050"/>
                </a:solidFill>
                <a:latin typeface="Arial"/>
              </a:rPr>
              <a:t> →         ;  </a:t>
            </a:r>
            <a:r>
              <a:rPr b="1" lang="hu-HU" sz="20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hu-HU" sz="2000" spc="-1" strike="noStrike">
                <a:solidFill>
                  <a:srgbClr val="00b050"/>
                </a:solidFill>
                <a:latin typeface="Arial"/>
              </a:rPr>
              <a:t>  →         ; </a:t>
            </a:r>
            <a:r>
              <a:rPr b="1" lang="hu-HU" sz="2000" spc="-1" strike="noStrike">
                <a:solidFill>
                  <a:srgbClr val="00b050"/>
                </a:solidFill>
                <a:latin typeface="Arial"/>
              </a:rPr>
              <a:t>B</a:t>
            </a:r>
            <a:r>
              <a:rPr b="0" lang="hu-HU" sz="2000" spc="-1" strike="noStrike">
                <a:solidFill>
                  <a:srgbClr val="00b050"/>
                </a:solidFill>
                <a:latin typeface="Arial"/>
              </a:rPr>
              <a:t> →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138720" y="6215040"/>
            <a:ext cx="594000" cy="669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4746600" y="6216480"/>
            <a:ext cx="617400" cy="70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7380360" y="6229440"/>
            <a:ext cx="587160" cy="655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106200" y="1627200"/>
          <a:ext cx="8871120" cy="1002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1627200"/>
                    <a:ext cx="8871120" cy="1002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Szövegdoboz 1"/>
          <p:cNvSpPr/>
          <p:nvPr/>
        </p:nvSpPr>
        <p:spPr>
          <a:xfrm>
            <a:off x="395280" y="1628640"/>
            <a:ext cx="1152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kiegészítő védelem (ÁVK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" name="Téglalap 7"/>
          <p:cNvSpPr/>
          <p:nvPr/>
        </p:nvSpPr>
        <p:spPr>
          <a:xfrm>
            <a:off x="133560" y="1197000"/>
            <a:ext cx="46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S típusú ÁVK alkalmazás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" name="Szövegdoboz 2"/>
          <p:cNvSpPr/>
          <p:nvPr/>
        </p:nvSpPr>
        <p:spPr>
          <a:xfrm>
            <a:off x="1638360" y="6858000"/>
            <a:ext cx="5381640" cy="642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Szövegdoboz 3"/>
          <p:cNvSpPr/>
          <p:nvPr/>
        </p:nvSpPr>
        <p:spPr>
          <a:xfrm>
            <a:off x="395280" y="651672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A szelektív alkalmazásra példa! ( Az S típusú ÁVK-val az egész ellátás is védhető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6:43:25Z</dcterms:created>
  <dc:creator>Güntner Attila</dc:creator>
  <dc:description/>
  <dc:language>en-US</dc:language>
  <cp:lastModifiedBy>KJ</cp:lastModifiedBy>
  <dcterms:modified xsi:type="dcterms:W3CDTF">2017-05-01T09:01:11Z</dcterms:modified>
  <cp:revision>232</cp:revision>
  <dc:subject/>
  <dc:title>CÍM</dc:title>
</cp:coreProperties>
</file>