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0.wmf" ContentType="image/x-wmf"/>
  <Override PartName="/ppt/media/image19.jpeg" ContentType="image/jpeg"/>
  <Override PartName="/ppt/media/image1.jpeg" ContentType="image/jpeg"/>
  <Override PartName="/ppt/media/image4.wmf" ContentType="image/x-wmf"/>
  <Override PartName="/ppt/media/image16.wmf" ContentType="image/x-wmf"/>
  <Override PartName="/ppt/media/image15.jpeg" ContentType="image/jpe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C162-9C2D-48C7-8EC5-791D62E21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03E2-FC3C-4017-8A4C-74232CFB8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CC17-F023-437A-9906-6FC977B4F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3786-5C1C-4DED-8923-A11E44FE1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9AEB-A598-4992-B1B1-4146655EE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D65C-D348-44B9-BDF7-5B860D90C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91FC-6D7E-45FA-8C54-D184B6AEE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10C6-8B81-44D4-B1EF-6105D027B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2FAD-0152-4422-813C-D91A76BD4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1874-FEC6-4AFE-B23B-53EFC976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35E3-FD1E-4129-B3B2-AF3DE497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F5E7-28F9-42C6-A336-0428E726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38BB2-9EF0-4A4C-B6A2-0975BF0BF3F4}" type="slidenum">
              <a:rPr b="0" lang="hu-HU" sz="14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wmf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0" y="260280"/>
            <a:ext cx="6732720" cy="1873440"/>
          </a:xfrm>
          <a:prstGeom prst="roundRect">
            <a:avLst>
              <a:gd name="adj" fmla="val 7366"/>
            </a:avLst>
          </a:prstGeom>
          <a:solidFill>
            <a:srgbClr val="ffffff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42" name="Picture 9" descr="logo_kicsi"/>
          <p:cNvPicPr/>
          <p:nvPr/>
        </p:nvPicPr>
        <p:blipFill>
          <a:blip r:embed="rId1"/>
          <a:stretch/>
        </p:blipFill>
        <p:spPr>
          <a:xfrm>
            <a:off x="328680" y="322200"/>
            <a:ext cx="2152440" cy="17384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0"/>
          <p:cNvSpPr/>
          <p:nvPr/>
        </p:nvSpPr>
        <p:spPr>
          <a:xfrm>
            <a:off x="2987640" y="765000"/>
            <a:ext cx="34574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6699"/>
                </a:solidFill>
                <a:latin typeface="MS Reference Sans Serif"/>
              </a:rPr>
              <a:t>Magyar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6699"/>
                </a:solidFill>
                <a:latin typeface="MS Reference Sans Serif"/>
              </a:rPr>
              <a:t>Elektrotechnikai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6699"/>
                </a:solidFill>
                <a:latin typeface="MS Reference Sans Serif"/>
              </a:rPr>
              <a:t>Egyesület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4" name="Line 11"/>
          <p:cNvSpPr/>
          <p:nvPr/>
        </p:nvSpPr>
        <p:spPr>
          <a:xfrm>
            <a:off x="208080" y="260280"/>
            <a:ext cx="0" cy="2664000"/>
          </a:xfrm>
          <a:prstGeom prst="line">
            <a:avLst/>
          </a:prstGeom>
          <a:ln w="7632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45" name="Picture 16" descr=""/>
          <p:cNvPicPr/>
          <p:nvPr/>
        </p:nvPicPr>
        <p:blipFill>
          <a:blip r:embed="rId2"/>
          <a:stretch/>
        </p:blipFill>
        <p:spPr>
          <a:xfrm>
            <a:off x="2556000" y="260280"/>
            <a:ext cx="191880" cy="1814760"/>
          </a:xfrm>
          <a:prstGeom prst="rect">
            <a:avLst/>
          </a:prstGeom>
          <a:ln w="0">
            <a:noFill/>
          </a:ln>
        </p:spPr>
      </p:pic>
      <p:sp>
        <p:nvSpPr>
          <p:cNvPr id="46" name="Line 17"/>
          <p:cNvSpPr/>
          <p:nvPr/>
        </p:nvSpPr>
        <p:spPr>
          <a:xfrm>
            <a:off x="208080" y="260280"/>
            <a:ext cx="454644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7" name="AutoShape 13"/>
          <p:cNvSpPr/>
          <p:nvPr/>
        </p:nvSpPr>
        <p:spPr>
          <a:xfrm>
            <a:off x="2484360" y="2205000"/>
            <a:ext cx="6262920" cy="2376360"/>
          </a:xfrm>
          <a:prstGeom prst="roundRect">
            <a:avLst>
              <a:gd name="adj" fmla="val 25292"/>
            </a:avLst>
          </a:prstGeom>
          <a:solidFill>
            <a:srgbClr val="ffffff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8" name="Text Box 14"/>
          <p:cNvSpPr/>
          <p:nvPr/>
        </p:nvSpPr>
        <p:spPr>
          <a:xfrm>
            <a:off x="2843280" y="2589120"/>
            <a:ext cx="5616360" cy="18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6699"/>
                </a:solidFill>
                <a:latin typeface="Arial"/>
              </a:rPr>
              <a:t>Érintésvédelem 10. rész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Jegyzetcím: </a:t>
            </a:r>
            <a:r>
              <a:rPr b="1" lang="hu-HU" sz="2000" spc="-1" strike="noStrike">
                <a:solidFill>
                  <a:srgbClr val="00b050"/>
                </a:solidFill>
                <a:latin typeface="Arial"/>
              </a:rPr>
              <a:t>4. Kisfeszültségű rendszerek áramütés elleni védelme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ff0000"/>
                </a:solidFill>
                <a:latin typeface="Arial"/>
              </a:rPr>
              <a:t>Védővezető nélküli védelmi módok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0" y="0"/>
            <a:ext cx="250920" cy="685800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50000">
                <a:srgbClr val="fffff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0" name="AutoShape 28"/>
          <p:cNvSpPr/>
          <p:nvPr/>
        </p:nvSpPr>
        <p:spPr>
          <a:xfrm>
            <a:off x="3708360" y="5157720"/>
            <a:ext cx="5184720" cy="1295640"/>
          </a:xfrm>
          <a:prstGeom prst="roundRect">
            <a:avLst>
              <a:gd name="adj" fmla="val 25292"/>
            </a:avLst>
          </a:prstGeom>
          <a:solidFill>
            <a:srgbClr val="ffffff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1" name="Text Box 30"/>
          <p:cNvSpPr/>
          <p:nvPr/>
        </p:nvSpPr>
        <p:spPr>
          <a:xfrm>
            <a:off x="4284720" y="5229360"/>
            <a:ext cx="4174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Kassai József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ny. főiskolai docen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4643280" y="83664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KiF áramütés elleni védelem </a:t>
            </a:r>
            <a:br>
              <a:rPr sz="2000"/>
            </a:b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Védővezető nélküli védelem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Szövegdoboz 1"/>
          <p:cNvSpPr/>
          <p:nvPr/>
        </p:nvSpPr>
        <p:spPr>
          <a:xfrm>
            <a:off x="179280" y="1341360"/>
            <a:ext cx="48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ettős vagy megerősített szigetelés kiviteli módja 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00" name="Picture 3" descr="3-19"/>
          <p:cNvPicPr/>
          <p:nvPr/>
        </p:nvPicPr>
        <p:blipFill>
          <a:blip r:embed="rId1"/>
          <a:stretch/>
        </p:blipFill>
        <p:spPr>
          <a:xfrm>
            <a:off x="4576680" y="2205000"/>
            <a:ext cx="4316400" cy="3533760"/>
          </a:xfrm>
          <a:prstGeom prst="rect">
            <a:avLst/>
          </a:prstGeom>
          <a:ln w="0">
            <a:noFill/>
          </a:ln>
        </p:spPr>
      </p:pic>
      <p:sp>
        <p:nvSpPr>
          <p:cNvPr id="101" name="Szövegdoboz 1"/>
          <p:cNvSpPr/>
          <p:nvPr/>
        </p:nvSpPr>
        <p:spPr>
          <a:xfrm>
            <a:off x="179280" y="2276640"/>
            <a:ext cx="4537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a)</a:t>
            </a:r>
            <a:r>
              <a:rPr b="0" lang="hu-H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,</a:t>
            </a:r>
            <a:r>
              <a:rPr b="0" i="1" lang="hu-H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b)</a:t>
            </a:r>
            <a:r>
              <a:rPr b="0" lang="hu-H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és </a:t>
            </a:r>
            <a:r>
              <a:rPr b="0" i="1" lang="hu-H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c)</a:t>
            </a:r>
            <a:r>
              <a:rPr b="0" lang="hu-H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fémburkolatú készülék</a:t>
            </a:r>
            <a:r>
              <a:rPr b="0" lang="hu-H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,       </a:t>
            </a:r>
            <a:r>
              <a:rPr b="0" i="1" lang="hu-H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d)</a:t>
            </a:r>
            <a:r>
              <a:rPr b="0" lang="hu-H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, </a:t>
            </a:r>
            <a:r>
              <a:rPr b="0" i="1" lang="hu-H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e)</a:t>
            </a:r>
            <a:r>
              <a:rPr b="0" lang="hu-H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és</a:t>
            </a:r>
            <a:r>
              <a:rPr b="0" i="1" lang="hu-H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f)</a:t>
            </a:r>
            <a:r>
              <a:rPr b="0" lang="hu-H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szigetelőburkolatú készülék,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                                                                                 </a:t>
            </a:r>
            <a:r>
              <a:rPr b="0" i="1" lang="hu-HU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1</a:t>
            </a:r>
            <a:r>
              <a:rPr b="0" lang="hu-HU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 aktív rész (üzemi vezető),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2 </a:t>
            </a:r>
            <a:r>
              <a:rPr b="0" lang="hu-HU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alap szigetelés (üzemi szigetelés),                                                               </a:t>
            </a:r>
            <a:r>
              <a:rPr b="0" i="1" lang="hu-HU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3</a:t>
            </a:r>
            <a:r>
              <a:rPr b="0" lang="hu-HU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 kiegészítő szigetelés,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4</a:t>
            </a:r>
            <a:r>
              <a:rPr b="0" lang="hu-HU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 megerősített szigetelés,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5 </a:t>
            </a:r>
            <a:r>
              <a:rPr b="0" lang="hu-HU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fém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4" name="Szövegdoboz 2"/>
          <p:cNvSpPr/>
          <p:nvPr/>
        </p:nvSpPr>
        <p:spPr>
          <a:xfrm>
            <a:off x="179280" y="6308640"/>
            <a:ext cx="896472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IP2X:</a:t>
            </a:r>
            <a:r>
              <a:rPr b="0" lang="hu-HU" sz="1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a veszélyes részek ujjal való érintésével szembeni védettséget jelent,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IPXXB</a:t>
            </a:r>
            <a:r>
              <a:rPr b="0" lang="hu-HU" sz="1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: a burkolat felnyitása esetén is védett a berendezés a veszélyes részek ujjal való érintésével szemben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4643280" y="83664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KiF áramütés elleni védelem </a:t>
            </a:r>
            <a:br>
              <a:rPr sz="2000"/>
            </a:b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Védővezető nélküli védelem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6" name="Szövegdoboz 1"/>
          <p:cNvSpPr/>
          <p:nvPr/>
        </p:nvSpPr>
        <p:spPr>
          <a:xfrm>
            <a:off x="34920" y="1373040"/>
            <a:ext cx="48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ettős vagy megerősített szigetelésű készülék burkolatai 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7" name="Szövegdoboz 1"/>
          <p:cNvSpPr/>
          <p:nvPr/>
        </p:nvSpPr>
        <p:spPr>
          <a:xfrm>
            <a:off x="324000" y="2295360"/>
            <a:ext cx="871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Ha az áramütés elleni védelmet a burkolatok biztosítják, akkor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Ha a villamos szerkezet vezetőképes részeit az aktív részektől csak alapszigetelés választja el, akkor azt legalább IPXXB vagy IP2X védettségi fokozatú szigetelőburkolatban kell elhelyezni;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A szigetelőburkolaton ne legyenek átmenő vezetőképes részek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Ha a szigetelőburkolaton elkerülhetetlen vezetőképes rész átvezetése, gondoskodni kell a védelmi szint fenntartásáról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Ha a szigetelőburkolaton nyitható fedél vagy ajtó van akkor az csak szerszám vagy kulcs használatával legyen nyitható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Kulcs vagy szerszám nélkül nyitható szigetelőburkolat alatt a hozzáférhető vezetőképes részeket kulccsal vagy szerszámmal bontható, legalább </a:t>
            </a:r>
            <a:r>
              <a:rPr b="1" lang="hu-HU" sz="1800" spc="-1" strike="noStrike">
                <a:solidFill>
                  <a:srgbClr val="006699"/>
                </a:solidFill>
                <a:latin typeface="Arial"/>
              </a:rPr>
              <a:t>IPXXB</a:t>
            </a: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 vagy </a:t>
            </a:r>
            <a:r>
              <a:rPr b="1" lang="hu-HU" sz="1800" spc="-1" strike="noStrike">
                <a:solidFill>
                  <a:srgbClr val="006699"/>
                </a:solidFill>
                <a:latin typeface="Arial"/>
              </a:rPr>
              <a:t>IP2X</a:t>
            </a: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 védettséget nyújtó, szigetelő védőfedés mögé kell elhelyezni.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0" name="Szövegdoboz 1"/>
          <p:cNvSpPr/>
          <p:nvPr/>
        </p:nvSpPr>
        <p:spPr>
          <a:xfrm>
            <a:off x="395280" y="1773360"/>
            <a:ext cx="84978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A villamos elválasztással védett áramkör maximum 500 V feszültségű lehe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A tápoldalon </a:t>
            </a:r>
            <a:r>
              <a:rPr b="1" lang="hu-H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célszerű, de nem követelmény</a:t>
            </a:r>
            <a:r>
              <a:rPr b="0" lang="hu-H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biztonsági szigetelő transzformátor vagy ezzel biztonsági szempontból egyenértékű áramforrás alkalmazása; </a:t>
            </a:r>
            <a:r>
              <a:rPr b="0" lang="hu-H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	</a:t>
            </a:r>
            <a:r>
              <a:rPr b="0" lang="hu-H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(</a:t>
            </a:r>
            <a:r>
              <a:rPr b="0" lang="hu-H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Ezen intézkedés célja, az elválasztott áramkörbe a feszültségáthatolás  </a:t>
            </a:r>
            <a:r>
              <a:rPr b="0" lang="hu-H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	</a:t>
            </a:r>
            <a:r>
              <a:rPr b="0" lang="hu-H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nagy biztonságú megakadályozása!)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Az elválasztott áramkör aktív részeinek egyetlen pontját sem szabad más áramkörökkel, vagy a földdel összekötni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Az elválasztott áramkör egyetlen fogyasztót táplálhat csak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1" name="Szövegdoboz 1"/>
          <p:cNvSpPr/>
          <p:nvPr/>
        </p:nvSpPr>
        <p:spPr>
          <a:xfrm>
            <a:off x="179280" y="623736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Az alapszigetelés esetleges meghibásodásakor mind a test, mind a testet megérintő személy, mind a föld hibapotenciálra kerül, de nem alakul ki áramkör, áram nem folyik!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4716360" y="83664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KiF áramütés elleni védelem </a:t>
            </a:r>
            <a:br>
              <a:rPr sz="2000"/>
            </a:b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Védővezető nélküli védelem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3" name="Szövegdoboz 1"/>
          <p:cNvSpPr/>
          <p:nvPr/>
        </p:nvSpPr>
        <p:spPr>
          <a:xfrm>
            <a:off x="179280" y="1268280"/>
            <a:ext cx="48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llamos elválasztás kialakítása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6" name="Szövegdoboz 1"/>
          <p:cNvSpPr/>
          <p:nvPr/>
        </p:nvSpPr>
        <p:spPr>
          <a:xfrm>
            <a:off x="179280" y="1730520"/>
            <a:ext cx="8964720" cy="13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A villamos elválasztással védett áramkör maximum 500 V feszültségű lehe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A tápoldalon elválasztó transzformátort kell alkalmazni! (</a:t>
            </a:r>
            <a:r>
              <a:rPr b="1" lang="hu-HU" sz="2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Célszerű, de nem követelmény</a:t>
            </a:r>
            <a:r>
              <a:rPr b="0" lang="hu-HU" sz="2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biztonsági szigetelő transzformátor alkalmazása. </a:t>
            </a:r>
            <a:r>
              <a:rPr b="0" lang="hu-H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Ezen intézkedés célja, az elválasztott áramkörbe a feszültségáthatolás megakadályozása!)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7" name="Szövegdoboz 1"/>
          <p:cNvSpPr/>
          <p:nvPr/>
        </p:nvSpPr>
        <p:spPr>
          <a:xfrm>
            <a:off x="179280" y="623736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Az alapszigetelés esetleges meghibásodásakor mind a test, mind a testet megérintő személy, mind a föld hibapotenciálra kerül, de nem alakul ki áramkör, áram nem folyik!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4716360" y="83664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KiF áramütés elleni védelem </a:t>
            </a:r>
            <a:br>
              <a:rPr sz="2000"/>
            </a:b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Védővezető nélküli védelem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9" name="Szövegdoboz 1"/>
          <p:cNvSpPr/>
          <p:nvPr/>
        </p:nvSpPr>
        <p:spPr>
          <a:xfrm>
            <a:off x="179280" y="1268280"/>
            <a:ext cx="48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llamos elválasztás kialakítása 1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1550880" y="3178080"/>
            <a:ext cx="5829480" cy="2987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3" name="Szövegdoboz 1"/>
          <p:cNvSpPr/>
          <p:nvPr/>
        </p:nvSpPr>
        <p:spPr>
          <a:xfrm>
            <a:off x="395280" y="1773360"/>
            <a:ext cx="849780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Az elválasztott áramkör aktív részeinek egyetlen pontját sem szabad más áramkörökkel, vagy a földdel összekötni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Az elválasztott áramkör egyetlen fogyasztót táplálhat csak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4" name="Szövegdoboz 1"/>
          <p:cNvSpPr/>
          <p:nvPr/>
        </p:nvSpPr>
        <p:spPr>
          <a:xfrm>
            <a:off x="179280" y="623736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Az alapszigetelés esetleges meghibásodásakor mind a test, mind a testet megérintő személy, mind a föld hibapotenciálra kerül, de nem alakul ki áramkör, áram nem folyik!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4716360" y="83664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KiF áramütés elleni védelem </a:t>
            </a:r>
            <a:br>
              <a:rPr sz="2000"/>
            </a:b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Védővezető nélküli védelem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6" name="Szövegdoboz 1"/>
          <p:cNvSpPr/>
          <p:nvPr/>
        </p:nvSpPr>
        <p:spPr>
          <a:xfrm>
            <a:off x="179280" y="1268280"/>
            <a:ext cx="48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llamos elválasztás kialakítása 2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271440" y="3130560"/>
            <a:ext cx="8404200" cy="2819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0" name="Szövegdoboz 1"/>
          <p:cNvSpPr/>
          <p:nvPr/>
        </p:nvSpPr>
        <p:spPr>
          <a:xfrm>
            <a:off x="179280" y="3068640"/>
            <a:ext cx="892980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Az elválasztott áramkörhöz tartozó </a:t>
            </a:r>
            <a:r>
              <a:rPr b="1" lang="hu-H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testeket szigetelt, földeletlen, egyenpotenciálra hozó vezetőkkel össze kell kötni</a:t>
            </a:r>
            <a:r>
              <a:rPr b="0" lang="hu-H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.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Az összes csatlakozóaljzatnak legyen védőérintkezője, és legyen összekötve a földeletlen egyenpotenciálra hozó rendszerrel, ami így biztosítja a hordozható villamos szerkezetek testének EPH-ba kötésé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A II. év. osztályú villamos szerkezetek vezetékeinek kivételével minden hajlékony vezetékben legyen védővezető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1" name="Szövegdoboz 1"/>
          <p:cNvSpPr/>
          <p:nvPr/>
        </p:nvSpPr>
        <p:spPr>
          <a:xfrm>
            <a:off x="179280" y="623736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*Nem szakképzett személyek bemehetnek, sőt még kezelhetnek is, de bármilyen változtatást (bővítés, átalakítás) csak szakképzett és kioktatott szakemberek végezhetnek!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4716360" y="83664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KiF áramütés elleni védelem </a:t>
            </a:r>
            <a:br>
              <a:rPr sz="2000"/>
            </a:b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Védővezető nélküli védelem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3" name="Szövegdoboz 1"/>
          <p:cNvSpPr/>
          <p:nvPr/>
        </p:nvSpPr>
        <p:spPr>
          <a:xfrm>
            <a:off x="179280" y="2139840"/>
            <a:ext cx="89647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6699"/>
                </a:solidFill>
                <a:latin typeface="Arial"/>
              </a:rPr>
              <a:t>Csak szakképzett vagy kioktatott személyek által irányított vagy felügyelt berendezésekre alkalmazható védelmi mód!*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4" name="Szövegdoboz 1"/>
          <p:cNvSpPr/>
          <p:nvPr/>
        </p:nvSpPr>
        <p:spPr>
          <a:xfrm>
            <a:off x="184320" y="1592280"/>
            <a:ext cx="8924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llamos elválasztás egynél több fogyasztókészülék táplálása eseté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7" name="Szövegdoboz 1"/>
          <p:cNvSpPr/>
          <p:nvPr/>
        </p:nvSpPr>
        <p:spPr>
          <a:xfrm>
            <a:off x="179280" y="623736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Az alapszigetelés esetleges meghibásodásakor minden test, bármely testet megérintő személy, mind a föld hibapotenciálra kerül, de nem alakul ki áramkör, áram nem folyik!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4716360" y="83664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KiF áramütés elleni védelem </a:t>
            </a:r>
            <a:br>
              <a:rPr sz="2000"/>
            </a:b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Védővezető nélküli védelem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9" name="Szövegdoboz 9"/>
          <p:cNvSpPr/>
          <p:nvPr/>
        </p:nvSpPr>
        <p:spPr>
          <a:xfrm>
            <a:off x="184320" y="1592280"/>
            <a:ext cx="8924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llamos elválasztás egynél több fogyasztókészülék táplálása eseté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0" name="Szövegdoboz 1"/>
          <p:cNvSpPr/>
          <p:nvPr/>
        </p:nvSpPr>
        <p:spPr>
          <a:xfrm>
            <a:off x="179280" y="2139840"/>
            <a:ext cx="89647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6699"/>
                </a:solidFill>
                <a:latin typeface="Arial"/>
              </a:rPr>
              <a:t>Csak szakképzett vagy kioktatott személyek által irányított vagy felügyelt berendezésekre alkalmazható védelmi mód!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1233360" y="3392640"/>
            <a:ext cx="6363000" cy="2484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4716360" y="83664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KiF áramütés elleni védelem </a:t>
            </a:r>
            <a:br>
              <a:rPr sz="2000"/>
            </a:b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Védővezető nélküli védelem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5" name="Szövegdoboz 9"/>
          <p:cNvSpPr/>
          <p:nvPr/>
        </p:nvSpPr>
        <p:spPr>
          <a:xfrm>
            <a:off x="689040" y="1268280"/>
            <a:ext cx="36669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környezet elszigetelés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6" name="Szövegdoboz 1"/>
          <p:cNvSpPr/>
          <p:nvPr/>
        </p:nvSpPr>
        <p:spPr>
          <a:xfrm>
            <a:off x="179280" y="1700280"/>
            <a:ext cx="89647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6699"/>
                </a:solidFill>
                <a:latin typeface="Arial"/>
              </a:rPr>
              <a:t>Csak szakképzett vagy kioktatott személyek által irányított vagy felügyelt berendezésekre alkalmazható védelmi mód!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1042920" y="2554200"/>
            <a:ext cx="6997680" cy="4330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4716360" y="83664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KiF áramütés elleni védelem </a:t>
            </a:r>
            <a:br>
              <a:rPr sz="2000"/>
            </a:b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Védővezető nélküli védelem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1" name="Szövegdoboz 9"/>
          <p:cNvSpPr/>
          <p:nvPr/>
        </p:nvSpPr>
        <p:spPr>
          <a:xfrm>
            <a:off x="179280" y="1598760"/>
            <a:ext cx="8964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Védelem földeletlen helyi egyenpotenciálú összekötéssel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2" name="Szövegdoboz 1"/>
          <p:cNvSpPr/>
          <p:nvPr/>
        </p:nvSpPr>
        <p:spPr>
          <a:xfrm>
            <a:off x="179280" y="2165400"/>
            <a:ext cx="89647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6699"/>
                </a:solidFill>
                <a:latin typeface="Arial"/>
              </a:rPr>
              <a:t>Csak szakképzett vagy kioktatott személyek által irányított vagy felügyelt berendezésekre alkalmazható védelmi mód!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900000" y="3068640"/>
            <a:ext cx="7140600" cy="3679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6" name="Szövegdoboz 1"/>
          <p:cNvSpPr/>
          <p:nvPr/>
        </p:nvSpPr>
        <p:spPr>
          <a:xfrm>
            <a:off x="179280" y="3213000"/>
            <a:ext cx="8929800" cy="30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Minden egyidejűleg érinthető testet és idegen vezetőképes részt földeletlen egyen­po­tenciálra hozó vezetővel össze kell kötni.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1085760" indent="-342720">
              <a:lnSpc>
                <a:spcPct val="100000"/>
              </a:lnSpc>
              <a:spcBef>
                <a:spcPts val="400"/>
              </a:spcBef>
              <a:buClr>
                <a:srgbClr val="00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A csatlakozóaljzatok védőérintkezőit össze kell kötni a földeletlen egyenpotenciálra hozó vezetővel.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lvl="1" marL="1085760" indent="-342720">
              <a:lnSpc>
                <a:spcPct val="100000"/>
              </a:lnSpc>
              <a:spcBef>
                <a:spcPts val="400"/>
              </a:spcBef>
              <a:buClr>
                <a:srgbClr val="00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A villamos szerkezetek hajlékony csatlakozóvezetékeinek — a II. érintésvédelmi osztályú szerkezetek kivételével — tartalmazniuk kell védővezetőt, ezt azonban itt a földeletlen egyenpotenciálra hozás céljára kell felhasználni.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Kettős testzárlat esetén a hálózat túláramvédelmének a nullázásra előírt szabályok szerint ki kell kapcsolniuk a hibás berendezéseket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Meg kell akadályozni a különböző potenciálú részek egyidejű érintését.*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7" name="Szövegdoboz 1"/>
          <p:cNvSpPr/>
          <p:nvPr/>
        </p:nvSpPr>
        <p:spPr>
          <a:xfrm>
            <a:off x="179280" y="623736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*Ennek leggyakoribb megoldása, hogy a földtől szigetelt vaslemezhez hegesztik a testekhez, idegen vezetőképes részekhez csatlakozó EPH vezetőket.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4716360" y="83664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KiF áramütés elleni védelem </a:t>
            </a:r>
            <a:br>
              <a:rPr sz="2000"/>
            </a:b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Védővezető nélküli védelem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9" name="Szövegdoboz 1"/>
          <p:cNvSpPr/>
          <p:nvPr/>
        </p:nvSpPr>
        <p:spPr>
          <a:xfrm>
            <a:off x="179280" y="1557360"/>
            <a:ext cx="89647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6699"/>
                </a:solidFill>
                <a:latin typeface="Arial"/>
              </a:rPr>
              <a:t>Csak szakképzett vagy kioktatott személyek által irányított vagy felügyelt berendezésekre alkalmazható védelmi mód!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0" name="Szövegdoboz 9"/>
          <p:cNvSpPr/>
          <p:nvPr/>
        </p:nvSpPr>
        <p:spPr>
          <a:xfrm>
            <a:off x="179280" y="2454120"/>
            <a:ext cx="8964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édelem földeletlen helyi egyenpotenciálú összekötéssel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édelmi mód kialakítása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54" name="Object 4"/>
          <p:cNvGraphicFramePr/>
          <p:nvPr/>
        </p:nvGraphicFramePr>
        <p:xfrm>
          <a:off x="617400" y="1773360"/>
          <a:ext cx="8491680" cy="4760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1773360"/>
                    <a:ext cx="8491680" cy="47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Text Box 4"/>
          <p:cNvSpPr/>
          <p:nvPr/>
        </p:nvSpPr>
        <p:spPr>
          <a:xfrm>
            <a:off x="4643280" y="83664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KiF áramütés elleni védelem </a:t>
            </a:r>
            <a:br>
              <a:rPr sz="2000"/>
            </a:b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Védővezető nélküli védelem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3" name="Szövegdoboz 1"/>
          <p:cNvSpPr/>
          <p:nvPr/>
        </p:nvSpPr>
        <p:spPr>
          <a:xfrm>
            <a:off x="179280" y="3213000"/>
            <a:ext cx="8929800" cy="29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Ez a védelmi mód csak kivételesen és olyan szigorúan körülhatárolt helyeken lehet előnyös, ahol számolni kell az aktív részek közvetlen érintésével. Ilyen lehet kisfeszültségű vezeték-, vagy felső vezeték szerelésére alkalmazott szerelőkosár, próbaterem, javító műhely, laboratórium, stb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Ennek a védelmi módnak az a komoly előnye, hogy a dolgozó személyek környeze­tében egyáltalán nincs érinthető földpotenciál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A védelem szinte egyetlen megoldási módja ez ott,  ahol az érinthető részekre kikerülhet a veszélyes potenciál, tehát a földpotenciál jelenléte kifejezetten veszélyes és nem egy, hanem több készülék használatára van szükség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4" name="Szövegdoboz 1"/>
          <p:cNvSpPr/>
          <p:nvPr/>
        </p:nvSpPr>
        <p:spPr>
          <a:xfrm>
            <a:off x="179280" y="623736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A szigetelt EPH alkalmazása esetén ugyanolyan biztonságú földeletlen táplálást célszerű létesíteni, mint a villamos elválasztásnál, de nem előírás!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4716360" y="83664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KiF áramütés elleni védelem </a:t>
            </a:r>
            <a:br>
              <a:rPr sz="2000"/>
            </a:b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Védővezető nélküli védelem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6" name="Szövegdoboz 1"/>
          <p:cNvSpPr/>
          <p:nvPr/>
        </p:nvSpPr>
        <p:spPr>
          <a:xfrm>
            <a:off x="179280" y="1557360"/>
            <a:ext cx="89647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6699"/>
                </a:solidFill>
                <a:latin typeface="Arial"/>
              </a:rPr>
              <a:t>Csak szakképzett vagy kioktatott személyek által irányított vagy felügyelt berendezésekre alkalmazható védelmi mód!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7" name="Szövegdoboz 9"/>
          <p:cNvSpPr/>
          <p:nvPr/>
        </p:nvSpPr>
        <p:spPr>
          <a:xfrm>
            <a:off x="179280" y="2454120"/>
            <a:ext cx="8964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édelem földeletlen helyi egyenpotenciálú összekötéssel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édelmi mód alkalmazása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0" name="Szövegdoboz 1"/>
          <p:cNvSpPr/>
          <p:nvPr/>
        </p:nvSpPr>
        <p:spPr>
          <a:xfrm>
            <a:off x="214200" y="3213000"/>
            <a:ext cx="892980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csak alapvédelmet biztosítanak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hibavédelemmel ellátott, vagy anélküli berendezésekben használhatók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ibavédelem nélkül alkalmazható megoldás, természetesen nincs védővezető!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4716360" y="83664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KiF áramütés elleni védelem </a:t>
            </a:r>
            <a:br>
              <a:rPr sz="2000"/>
            </a:b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Védővezető nélküli védelem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2" name="Szövegdoboz 9"/>
          <p:cNvSpPr/>
          <p:nvPr/>
        </p:nvSpPr>
        <p:spPr>
          <a:xfrm>
            <a:off x="179280" y="2421000"/>
            <a:ext cx="8964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Védőakadályok és az elérhető tartományon kívüli elhelyezés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/Az MSZ HD 60364-4-41 szabvány B melléklet/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3" name="Szövegdoboz 1"/>
          <p:cNvSpPr/>
          <p:nvPr/>
        </p:nvSpPr>
        <p:spPr>
          <a:xfrm>
            <a:off x="179280" y="1557360"/>
            <a:ext cx="89647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6699"/>
                </a:solidFill>
                <a:latin typeface="Arial"/>
              </a:rPr>
              <a:t>Csak szakképzett vagy kioktatott személyek által irányított vagy felügyelt berendezésekre alkalmazható védelmi mód!*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4" name="Szövegdoboz 1"/>
          <p:cNvSpPr/>
          <p:nvPr/>
        </p:nvSpPr>
        <p:spPr>
          <a:xfrm>
            <a:off x="179280" y="623736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*Nem szakképzett személyek bemehetnek, sőt még kezelhetnek is, de bármilyen változtatást (bővítés, átalakítás) csak szakképzett és kioktatott szakemberek végezhetnek!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7" name="Szövegdoboz 1"/>
          <p:cNvSpPr/>
          <p:nvPr/>
        </p:nvSpPr>
        <p:spPr>
          <a:xfrm>
            <a:off x="214200" y="2492280"/>
            <a:ext cx="8929800" cy="36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Az áramkörbe iktatott soros impedancia olyan kis értékre korlátozza az áramkör kimenő zárlati teljesítményét, hogy áramerőssége az emberre veszélytelennek tekinthető. Ilyenek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r>
              <a:rPr b="0" lang="hu-H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a </a:t>
            </a:r>
            <a:r>
              <a:rPr b="1" lang="hu-H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gyújtószikra-mentes </a:t>
            </a:r>
            <a:r>
              <a:rPr b="0" lang="hu-H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áramkörökről táplált berendezések jele (Rb; Ex), valamint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r>
              <a:rPr b="0" lang="hu-H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a </a:t>
            </a:r>
            <a:r>
              <a:rPr b="1" lang="hu-H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médiatechnológiai (</a:t>
            </a:r>
            <a:r>
              <a:rPr b="0" lang="hu-H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r>
              <a:rPr b="1" lang="hu-H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információátviteli)</a:t>
            </a:r>
            <a:r>
              <a:rPr b="0" lang="hu-H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berendezések (televízió, rádió, házimozi, telefon, stb.) .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zen berendezések erősáramú áramütés elleni védelméről nem kell külön gondoskodni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8" name="Szövegdoboz 1"/>
          <p:cNvSpPr/>
          <p:nvPr/>
        </p:nvSpPr>
        <p:spPr>
          <a:xfrm>
            <a:off x="179280" y="623736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A korábbi magyar szabvány az MSZ 172-1:1986 „Korlátozott zárlati teljesítményű áramkör alkalmazása"-nak nevezte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4716360" y="83664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KiF áramütés elleni védelem </a:t>
            </a:r>
            <a:br>
              <a:rPr sz="2000"/>
            </a:b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Védővezető nélküli védelem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0" name="Szövegdoboz 9"/>
          <p:cNvSpPr/>
          <p:nvPr/>
        </p:nvSpPr>
        <p:spPr>
          <a:xfrm>
            <a:off x="179280" y="1557360"/>
            <a:ext cx="8964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Védelem az állandósult érintési áram és a kisütési energia korlátozásával /MSZ HD 60364-4-41 szabvány nem tárgyalja/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3" name="Szövegdoboz 1"/>
          <p:cNvSpPr/>
          <p:nvPr/>
        </p:nvSpPr>
        <p:spPr>
          <a:xfrm>
            <a:off x="179280" y="2421000"/>
            <a:ext cx="8929800" cy="39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6699"/>
                </a:solidFill>
                <a:latin typeface="Arial"/>
              </a:rPr>
              <a:t>0. év. osztályú</a:t>
            </a: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 az a gyártmány, amely nem törpefeszültségű, érinthető burkolatán nincs védő-csatlakozókapocs, s az aktív részektől nincs mindenütt kettős vagy megerősített szigeteléssel elválasztva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6699"/>
                </a:solidFill>
                <a:latin typeface="Arial"/>
              </a:rPr>
              <a:t>I. év. osztályú</a:t>
            </a: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 az a gyártmány, amelynek teste alapszigeteléssel van az aktív részektől elválasztva, és a villamosan összefüggő fémteste — a gyártmány belső áramköreitől független — védővezető csatlakoztatására alkalmas szerkezettel van ellátva (védőcsatlakozó-kapocs)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6699"/>
                </a:solidFill>
                <a:latin typeface="Arial"/>
              </a:rPr>
              <a:t>II. év. osztályú</a:t>
            </a: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 az a gyártmány, amelynek érinthető burkolata kettős vagy megerősített szigeteléssel van az aktív részektől elválasztva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6699"/>
                </a:solidFill>
                <a:latin typeface="Arial"/>
              </a:rPr>
              <a:t>III. év. osztályú</a:t>
            </a: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 az a gyártmány, amelyben az áramütés elleni védelem érintésvédelmi törpefeszültségen (PELV vagy SELV) alapul, és benne sem állítanak elő a törpefeszültségnél nagyobb feszültséget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4716360" y="83664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KiF áramütés elleni védelem </a:t>
            </a:r>
            <a:br>
              <a:rPr sz="2000"/>
            </a:b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Érintésvédelmi osztályok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5" name="Szövegdoboz 9"/>
          <p:cNvSpPr/>
          <p:nvPr/>
        </p:nvSpPr>
        <p:spPr>
          <a:xfrm>
            <a:off x="90360" y="1590840"/>
            <a:ext cx="89632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A legalább IP2X védettségű gyártmányokat érintésvédelmi osztályokba sorolják (MSZ EN 61140)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8" name="Szövegdoboz 1"/>
          <p:cNvSpPr/>
          <p:nvPr/>
        </p:nvSpPr>
        <p:spPr>
          <a:xfrm>
            <a:off x="127080" y="2071800"/>
            <a:ext cx="8929440" cy="33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6699"/>
                </a:solidFill>
                <a:latin typeface="Arial"/>
              </a:rPr>
              <a:t>0. év. osztály: </a:t>
            </a:r>
            <a:r>
              <a:rPr b="1" lang="hu-HU" sz="2000" spc="-1" strike="noStrike">
                <a:solidFill>
                  <a:srgbClr val="ff0000"/>
                </a:solidFill>
                <a:latin typeface="Arial"/>
              </a:rPr>
              <a:t> nincs jelezve!</a:t>
            </a: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6699"/>
                </a:solidFill>
                <a:latin typeface="Arial"/>
              </a:rPr>
              <a:t>I. év. osztály:</a:t>
            </a: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6699"/>
                </a:solidFill>
                <a:latin typeface="Arial"/>
              </a:rPr>
              <a:t>II. év. osztály: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6699"/>
                </a:solidFill>
                <a:latin typeface="Arial"/>
              </a:rPr>
              <a:t>III. év. osztály: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4716360" y="83664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KiF áramütés elleni védelem </a:t>
            </a:r>
            <a:br>
              <a:rPr sz="2000"/>
            </a:b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Érintésvédelmi osztályok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0" name="Szövegdoboz 9"/>
          <p:cNvSpPr/>
          <p:nvPr/>
        </p:nvSpPr>
        <p:spPr>
          <a:xfrm>
            <a:off x="90360" y="1590840"/>
            <a:ext cx="8963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Gyártmányokat érintésvédelmi osztályainak jelölés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91" name="Picture 9" descr=""/>
          <p:cNvPicPr/>
          <p:nvPr/>
        </p:nvPicPr>
        <p:blipFill>
          <a:blip r:embed="rId1"/>
          <a:stretch/>
        </p:blipFill>
        <p:spPr>
          <a:xfrm>
            <a:off x="2987640" y="3716280"/>
            <a:ext cx="936720" cy="9223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" descr=""/>
          <p:cNvPicPr/>
          <p:nvPr/>
        </p:nvPicPr>
        <p:blipFill>
          <a:blip r:embed="rId2"/>
          <a:stretch/>
        </p:blipFill>
        <p:spPr>
          <a:xfrm>
            <a:off x="2733840" y="5157720"/>
            <a:ext cx="1333440" cy="792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"/>
          <p:cNvPicPr/>
          <p:nvPr/>
        </p:nvPicPr>
        <p:blipFill>
          <a:blip r:embed="rId3"/>
          <a:stretch/>
        </p:blipFill>
        <p:spPr>
          <a:xfrm>
            <a:off x="2963880" y="2540160"/>
            <a:ext cx="960480" cy="974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96" name="Szövegdoboz 1" descr=""/>
          <p:cNvPicPr/>
          <p:nvPr/>
        </p:nvPicPr>
        <p:blipFill>
          <a:blip r:embed="rId1"/>
          <a:stretch/>
        </p:blipFill>
        <p:spPr>
          <a:xfrm>
            <a:off x="85680" y="2414520"/>
            <a:ext cx="9070920" cy="382104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4"/>
          <p:cNvSpPr/>
          <p:nvPr/>
        </p:nvSpPr>
        <p:spPr>
          <a:xfrm>
            <a:off x="4716360" y="1012680"/>
            <a:ext cx="40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KiF áramütés elleni védelem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8" name="Szövegdoboz 9"/>
          <p:cNvSpPr/>
          <p:nvPr/>
        </p:nvSpPr>
        <p:spPr>
          <a:xfrm>
            <a:off x="179280" y="1700280"/>
            <a:ext cx="8964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Áramütés elleni védelem az MSZ HD 60364-4-41 szabványba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12"/>
          <p:cNvSpPr/>
          <p:nvPr/>
        </p:nvSpPr>
        <p:spPr>
          <a:xfrm>
            <a:off x="4788000" y="90792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6699"/>
                </a:solidFill>
                <a:latin typeface="Arial"/>
              </a:rPr>
              <a:t>Előadás vég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0" name="Text Box 14"/>
          <p:cNvSpPr/>
          <p:nvPr/>
        </p:nvSpPr>
        <p:spPr>
          <a:xfrm>
            <a:off x="4140360" y="3471840"/>
            <a:ext cx="45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Köszönöm a figyelmet!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01" name="Picture 16" descr="megujulasi"/>
          <p:cNvPicPr/>
          <p:nvPr/>
        </p:nvPicPr>
        <p:blipFill>
          <a:blip r:embed="rId1"/>
          <a:stretch/>
        </p:blipFill>
        <p:spPr>
          <a:xfrm>
            <a:off x="324000" y="1341360"/>
            <a:ext cx="3346200" cy="4753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4643280" y="83664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KiF áramütés elleni védelem </a:t>
            </a:r>
            <a:br>
              <a:rPr sz="2000"/>
            </a:b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Védővezető nélküli védelem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" name="Szövegdoboz 1"/>
          <p:cNvSpPr/>
          <p:nvPr/>
        </p:nvSpPr>
        <p:spPr>
          <a:xfrm>
            <a:off x="179280" y="1557360"/>
            <a:ext cx="8964720" cy="50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édővezető nélküli áramütés elleni védelmi módok fajtái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SELV- és PELV-törpefeszültség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Kettős vagy megerősített szigetelé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Villamos elválasztá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Villamos elválasztás egynél több fogyasztókészülék táplálása eseté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A környezet elszigetelés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Védelem földeletlen helyi egyenpotenciálú összekötéssel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Védőakadályok és az elérhető tartományon kívüli elhelyezés (hibavédelemmel, vagy a nélkül)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Védelem az állandósult érintési áram és a kisütési energia korlátozásával /MSZ HD 60364-4-41 szabvány nem tárgyalja/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zövegdoboz 1"/>
          <p:cNvSpPr/>
          <p:nvPr/>
        </p:nvSpPr>
        <p:spPr>
          <a:xfrm>
            <a:off x="179280" y="1341360"/>
            <a:ext cx="48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örpefeszültség (ELV)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LV, PELV, FELV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2" name="Szövegdoboz 2"/>
          <p:cNvSpPr/>
          <p:nvPr/>
        </p:nvSpPr>
        <p:spPr>
          <a:xfrm>
            <a:off x="324000" y="2205000"/>
            <a:ext cx="8712000" cy="42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A törpefeszültség legfeljebb: 50 V </a:t>
            </a:r>
            <a:r>
              <a:rPr b="1" lang="hu-HU" sz="1800" spc="-1" strike="noStrike">
                <a:solidFill>
                  <a:srgbClr val="006699"/>
                </a:solidFill>
                <a:latin typeface="Arial"/>
              </a:rPr>
              <a:t>AC</a:t>
            </a: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 vagy  120 V </a:t>
            </a:r>
            <a:r>
              <a:rPr b="1" lang="hu-HU" sz="1800" spc="-1" strike="noStrike">
                <a:solidFill>
                  <a:srgbClr val="006699"/>
                </a:solidFill>
                <a:latin typeface="Arial"/>
              </a:rPr>
              <a:t>DC</a:t>
            </a: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 feszültség.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Angol nyelvű szakkifejezése: </a:t>
            </a:r>
            <a:r>
              <a:rPr b="1" i="1" lang="hu-HU" sz="1800" spc="-1" strike="noStrike">
                <a:solidFill>
                  <a:srgbClr val="006699"/>
                </a:solidFill>
                <a:latin typeface="Arial"/>
              </a:rPr>
              <a:t>E</a:t>
            </a: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xtra </a:t>
            </a:r>
            <a:r>
              <a:rPr b="1" i="1" lang="hu-HU" sz="1800" spc="-1" strike="noStrike">
                <a:solidFill>
                  <a:srgbClr val="006699"/>
                </a:solidFill>
                <a:latin typeface="Arial"/>
              </a:rPr>
              <a:t>L</a:t>
            </a: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ow </a:t>
            </a:r>
            <a:r>
              <a:rPr b="1" i="1" lang="hu-HU" sz="1800" spc="-1" strike="noStrike">
                <a:solidFill>
                  <a:srgbClr val="006699"/>
                </a:solidFill>
                <a:latin typeface="Arial"/>
              </a:rPr>
              <a:t>V</a:t>
            </a: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oltage       (</a:t>
            </a:r>
            <a:r>
              <a:rPr b="1" lang="hu-HU" sz="1800" spc="-1" strike="noStrike">
                <a:solidFill>
                  <a:srgbClr val="006699"/>
                </a:solidFill>
                <a:latin typeface="Arial"/>
              </a:rPr>
              <a:t>ELV</a:t>
            </a: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A törpefeszültség három féle kialakítású lehet:</a:t>
            </a:r>
            <a:r>
              <a:rPr b="1" i="1" lang="hu-HU" sz="1800" spc="-1" strike="noStrike">
                <a:solidFill>
                  <a:srgbClr val="0066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b050"/>
                </a:solidFill>
                <a:latin typeface="Arial"/>
              </a:rPr>
              <a:t>               </a:t>
            </a:r>
            <a:r>
              <a:rPr b="0" i="1" lang="hu-HU" sz="1800" spc="-1" strike="noStrike">
                <a:solidFill>
                  <a:srgbClr val="00b050"/>
                </a:solidFill>
                <a:latin typeface="Arial"/>
              </a:rPr>
              <a:t>1)</a:t>
            </a:r>
            <a:r>
              <a:rPr b="0" lang="hu-HU" sz="1800" spc="-1" strike="noStrike">
                <a:solidFill>
                  <a:srgbClr val="00b050"/>
                </a:solidFill>
                <a:latin typeface="Arial"/>
              </a:rPr>
              <a:t>  érintésvédelmi törpefeszültség földeletlen változata,                                   </a:t>
            </a:r>
            <a:r>
              <a:rPr b="0" lang="hu-HU" sz="18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b050"/>
                </a:solidFill>
                <a:latin typeface="Arial"/>
              </a:rPr>
              <a:t>angolul: </a:t>
            </a:r>
            <a:r>
              <a:rPr b="1" i="1" lang="hu-HU" sz="1800" spc="-1" strike="noStrike">
                <a:solidFill>
                  <a:srgbClr val="00b050"/>
                </a:solidFill>
                <a:latin typeface="Arial"/>
              </a:rPr>
              <a:t>S</a:t>
            </a:r>
            <a:r>
              <a:rPr b="0" lang="hu-HU" sz="1800" spc="-1" strike="noStrike">
                <a:solidFill>
                  <a:srgbClr val="00b050"/>
                </a:solidFill>
                <a:latin typeface="Arial"/>
              </a:rPr>
              <a:t>afety </a:t>
            </a:r>
            <a:r>
              <a:rPr b="1" i="1" lang="hu-HU" sz="1800" spc="-1" strike="noStrike">
                <a:solidFill>
                  <a:srgbClr val="00b050"/>
                </a:solidFill>
                <a:latin typeface="Arial"/>
              </a:rPr>
              <a:t>E</a:t>
            </a:r>
            <a:r>
              <a:rPr b="0" lang="hu-HU" sz="1800" spc="-1" strike="noStrike">
                <a:solidFill>
                  <a:srgbClr val="00b050"/>
                </a:solidFill>
                <a:latin typeface="Arial"/>
              </a:rPr>
              <a:t>xtra </a:t>
            </a:r>
            <a:r>
              <a:rPr b="1" i="1" lang="hu-HU" sz="1800" spc="-1" strike="noStrike">
                <a:solidFill>
                  <a:srgbClr val="00b050"/>
                </a:solidFill>
                <a:latin typeface="Arial"/>
              </a:rPr>
              <a:t>L</a:t>
            </a:r>
            <a:r>
              <a:rPr b="0" lang="hu-HU" sz="1800" spc="-1" strike="noStrike">
                <a:solidFill>
                  <a:srgbClr val="00b050"/>
                </a:solidFill>
                <a:latin typeface="Arial"/>
              </a:rPr>
              <a:t>ow </a:t>
            </a:r>
            <a:r>
              <a:rPr b="1" i="1" lang="hu-HU" sz="1800" spc="-1" strike="noStrike">
                <a:solidFill>
                  <a:srgbClr val="00b050"/>
                </a:solidFill>
                <a:latin typeface="Arial"/>
              </a:rPr>
              <a:t>V</a:t>
            </a:r>
            <a:r>
              <a:rPr b="0" lang="hu-HU" sz="1800" spc="-1" strike="noStrike">
                <a:solidFill>
                  <a:srgbClr val="00b050"/>
                </a:solidFill>
                <a:latin typeface="Arial"/>
              </a:rPr>
              <a:t>oltage       (</a:t>
            </a:r>
            <a:r>
              <a:rPr b="1" lang="hu-HU" sz="1800" spc="-1" strike="noStrike">
                <a:solidFill>
                  <a:srgbClr val="00b050"/>
                </a:solidFill>
                <a:latin typeface="Arial"/>
              </a:rPr>
              <a:t>SELV</a:t>
            </a:r>
            <a:r>
              <a:rPr b="0" lang="hu-HU" sz="1800" spc="-1" strike="noStrike">
                <a:solidFill>
                  <a:srgbClr val="00b050"/>
                </a:solidFill>
                <a:latin typeface="Arial"/>
              </a:rPr>
              <a:t>),                                                                                              </a:t>
            </a:r>
            <a:r>
              <a:rPr b="0" lang="hu-HU" sz="18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0" i="1" lang="hu-HU" sz="1800" spc="-1" strike="noStrike">
                <a:solidFill>
                  <a:srgbClr val="00b050"/>
                </a:solidFill>
                <a:latin typeface="Arial"/>
              </a:rPr>
              <a:t>2)</a:t>
            </a:r>
            <a:r>
              <a:rPr b="0" lang="hu-HU" sz="1800" spc="-1" strike="noStrike">
                <a:solidFill>
                  <a:srgbClr val="00b050"/>
                </a:solidFill>
                <a:latin typeface="Arial"/>
              </a:rPr>
              <a:t> érintésvédelmi törpefeszültség földelt változata,                                                        </a:t>
            </a:r>
            <a:r>
              <a:rPr b="0" lang="hu-HU" sz="18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b050"/>
                </a:solidFill>
                <a:latin typeface="Arial"/>
              </a:rPr>
              <a:t>angolul: </a:t>
            </a:r>
            <a:r>
              <a:rPr b="1" i="1" lang="hu-HU" sz="1800" spc="-1" strike="noStrike">
                <a:solidFill>
                  <a:srgbClr val="00b050"/>
                </a:solidFill>
                <a:latin typeface="Arial"/>
              </a:rPr>
              <a:t>P</a:t>
            </a:r>
            <a:r>
              <a:rPr b="0" lang="hu-HU" sz="1800" spc="-1" strike="noStrike">
                <a:solidFill>
                  <a:srgbClr val="00b050"/>
                </a:solidFill>
                <a:latin typeface="Arial"/>
              </a:rPr>
              <a:t>rotective </a:t>
            </a:r>
            <a:r>
              <a:rPr b="1" i="1" lang="hu-HU" sz="1800" spc="-1" strike="noStrike">
                <a:solidFill>
                  <a:srgbClr val="00b050"/>
                </a:solidFill>
                <a:latin typeface="Arial"/>
              </a:rPr>
              <a:t>E</a:t>
            </a:r>
            <a:r>
              <a:rPr b="0" lang="hu-HU" sz="1800" spc="-1" strike="noStrike">
                <a:solidFill>
                  <a:srgbClr val="00b050"/>
                </a:solidFill>
                <a:latin typeface="Arial"/>
              </a:rPr>
              <a:t>xtra </a:t>
            </a:r>
            <a:r>
              <a:rPr b="1" i="1" lang="hu-HU" sz="1800" spc="-1" strike="noStrike">
                <a:solidFill>
                  <a:srgbClr val="00b050"/>
                </a:solidFill>
                <a:latin typeface="Arial"/>
              </a:rPr>
              <a:t>L</a:t>
            </a:r>
            <a:r>
              <a:rPr b="0" lang="hu-HU" sz="1800" spc="-1" strike="noStrike">
                <a:solidFill>
                  <a:srgbClr val="00b050"/>
                </a:solidFill>
                <a:latin typeface="Arial"/>
              </a:rPr>
              <a:t>ow </a:t>
            </a:r>
            <a:r>
              <a:rPr b="1" i="1" lang="hu-HU" sz="1800" spc="-1" strike="noStrike">
                <a:solidFill>
                  <a:srgbClr val="00b050"/>
                </a:solidFill>
                <a:latin typeface="Arial"/>
              </a:rPr>
              <a:t>V</a:t>
            </a:r>
            <a:r>
              <a:rPr b="0" lang="hu-HU" sz="1800" spc="-1" strike="noStrike">
                <a:solidFill>
                  <a:srgbClr val="00b050"/>
                </a:solidFill>
                <a:latin typeface="Arial"/>
              </a:rPr>
              <a:t>oltage (</a:t>
            </a:r>
            <a:r>
              <a:rPr b="1" lang="hu-HU" sz="1800" spc="-1" strike="noStrike">
                <a:solidFill>
                  <a:srgbClr val="00b050"/>
                </a:solidFill>
                <a:latin typeface="Arial"/>
              </a:rPr>
              <a:t>PELV</a:t>
            </a:r>
            <a:r>
              <a:rPr b="0" lang="hu-HU" sz="1800" spc="-1" strike="noStrike">
                <a:solidFill>
                  <a:srgbClr val="00b050"/>
                </a:solidFill>
                <a:latin typeface="Arial"/>
              </a:rPr>
              <a:t>),    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                        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hu-HU" sz="1800" spc="-1" strike="noStrike">
                <a:solidFill>
                  <a:srgbClr val="ff0000"/>
                </a:solidFill>
                <a:latin typeface="Arial"/>
              </a:rPr>
              <a:t>3)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 üzemi törpefeszültség,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angolul: </a:t>
            </a:r>
            <a:r>
              <a:rPr b="1" i="1" lang="hu-HU" sz="1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unctional </a:t>
            </a:r>
            <a:r>
              <a:rPr b="1" i="1" lang="hu-HU" sz="1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xtra </a:t>
            </a:r>
            <a:r>
              <a:rPr b="1" i="1" lang="hu-HU" sz="18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ow </a:t>
            </a:r>
            <a:r>
              <a:rPr b="1" i="1" lang="hu-HU" sz="18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oltage (</a:t>
            </a:r>
            <a:r>
              <a:rPr b="1" lang="hu-HU" sz="1800" spc="-1" strike="noStrike">
                <a:solidFill>
                  <a:srgbClr val="ff0000"/>
                </a:solidFill>
                <a:latin typeface="Arial"/>
              </a:rPr>
              <a:t>FELV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).                   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A FELV-törpefeszültség változat nem teljesíti az áramütés elleni védelem követelményeit, a villamos  szerkezet működése miatt alkalmazott törpefeszültséget jelent, nem felel meg a nagyobb feszültség áthatolása elleni védelem biztonsági követelményeinek.                                                    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3" name="Szövegdoboz 3"/>
          <p:cNvSpPr/>
          <p:nvPr/>
        </p:nvSpPr>
        <p:spPr>
          <a:xfrm>
            <a:off x="179280" y="630864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b050"/>
                </a:solidFill>
                <a:latin typeface="Arial"/>
              </a:rPr>
              <a:t>Korábban csak a „SELV” volt az érintésvédelmi törpefeszültség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4643280" y="83664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KiF áramütés elleni védelem </a:t>
            </a:r>
            <a:br>
              <a:rPr sz="2000"/>
            </a:b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Védővezető nélküli védelem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zövegdoboz 2"/>
          <p:cNvSpPr/>
          <p:nvPr/>
        </p:nvSpPr>
        <p:spPr>
          <a:xfrm>
            <a:off x="179280" y="2060640"/>
            <a:ext cx="8964720" cy="37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JELLEMZŐI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6699"/>
                </a:solidFill>
                <a:latin typeface="Arial"/>
              </a:rPr>
              <a:t>A </a:t>
            </a:r>
            <a:r>
              <a:rPr b="1" lang="hu-HU" sz="2800" spc="-1" strike="noStrike">
                <a:solidFill>
                  <a:srgbClr val="006699"/>
                </a:solidFill>
                <a:latin typeface="Arial"/>
              </a:rPr>
              <a:t>törpefeszültségű</a:t>
            </a:r>
            <a:r>
              <a:rPr b="0" lang="hu-HU" sz="2800" spc="-1" strike="noStrike">
                <a:solidFill>
                  <a:srgbClr val="006699"/>
                </a:solidFill>
                <a:latin typeface="Arial"/>
              </a:rPr>
              <a:t>-</a:t>
            </a:r>
            <a:r>
              <a:rPr b="1" lang="hu-HU" sz="2800" spc="-1" strike="noStrike">
                <a:solidFill>
                  <a:srgbClr val="006699"/>
                </a:solidFill>
                <a:latin typeface="Arial"/>
              </a:rPr>
              <a:t>rendszer</a:t>
            </a:r>
            <a:r>
              <a:rPr b="0" lang="hu-HU" sz="2800" spc="-1" strike="noStrike">
                <a:solidFill>
                  <a:srgbClr val="006699"/>
                </a:solidFill>
                <a:latin typeface="Arial"/>
              </a:rPr>
              <a:t> csatlakozódugóinak olyan kivitelűnek kell lenniük, hogy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6699"/>
                </a:solidFill>
                <a:latin typeface="Arial"/>
              </a:rPr>
              <a:t>más feszültségrendszer csatlakozóaljzataiba ne lehessen behelyezni,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6699"/>
                </a:solidFill>
                <a:latin typeface="Arial"/>
              </a:rPr>
              <a:t>illetve törpefeszültségű rendszerek aljzataiba ne lehessen más feszültség-rendszerek csatlakozódugóit bedugni.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6" name="Szövegdoboz 3"/>
          <p:cNvSpPr/>
          <p:nvPr/>
        </p:nvSpPr>
        <p:spPr>
          <a:xfrm>
            <a:off x="179280" y="630864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b050"/>
                </a:solidFill>
                <a:latin typeface="Arial"/>
              </a:rPr>
              <a:t>Korábban csak a „SELV” volt az érintésvédelmi törpefeszültség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4643280" y="83664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KiF áramütés elleni védelem </a:t>
            </a:r>
            <a:br>
              <a:rPr sz="2000"/>
            </a:b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Védővezető nélküli védelem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Szövegdoboz 1"/>
          <p:cNvSpPr/>
          <p:nvPr/>
        </p:nvSpPr>
        <p:spPr>
          <a:xfrm>
            <a:off x="179280" y="1341360"/>
            <a:ext cx="48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örpefeszültség (ELV)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LV, PELV, FELV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zövegdoboz 1"/>
          <p:cNvSpPr/>
          <p:nvPr/>
        </p:nvSpPr>
        <p:spPr>
          <a:xfrm>
            <a:off x="179280" y="1341360"/>
            <a:ext cx="48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Érintésvédelmi törpefeszültség 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LV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0" name="Szövegdoboz 2"/>
          <p:cNvSpPr/>
          <p:nvPr/>
        </p:nvSpPr>
        <p:spPr>
          <a:xfrm>
            <a:off x="179280" y="2060640"/>
            <a:ext cx="8964720" cy="43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JELLEMZŐI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6699"/>
                </a:solidFill>
                <a:latin typeface="Arial"/>
              </a:rPr>
              <a:t>Táplálása: biztonsági transzformátorról </a:t>
            </a:r>
            <a:r>
              <a:rPr b="1" i="1" lang="hu-HU" sz="2800" spc="-1" strike="noStrike">
                <a:solidFill>
                  <a:srgbClr val="006699"/>
                </a:solidFill>
                <a:latin typeface="Arial"/>
              </a:rPr>
              <a:t>MSZ EN 61558</a:t>
            </a:r>
            <a:r>
              <a:rPr b="0" lang="hu-HU" sz="2800" spc="-1" strike="noStrike">
                <a:solidFill>
                  <a:srgbClr val="006699"/>
                </a:solidFill>
                <a:latin typeface="Arial"/>
              </a:rPr>
              <a:t> , vagy ezzel egyenértékű biztonsági tápforrásról,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6699"/>
                </a:solidFill>
                <a:latin typeface="Arial"/>
              </a:rPr>
              <a:t>A kisfeszültségű áramköröktől áthatolás ellen védő-elkülönítéssel kell védeni,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6699"/>
                </a:solidFill>
                <a:latin typeface="Arial"/>
              </a:rPr>
              <a:t>Az áramkörök földeletlenek, és a testeket szándékosan nem szabad a földdel összekötni,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6699"/>
                </a:solidFill>
                <a:latin typeface="Arial"/>
              </a:rPr>
              <a:t>Védővezető nincs.</a:t>
            </a:r>
            <a:r>
              <a:rPr b="0" i="1" lang="hu-HU" sz="28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1" name="Szövegdoboz 3"/>
          <p:cNvSpPr/>
          <p:nvPr/>
        </p:nvSpPr>
        <p:spPr>
          <a:xfrm>
            <a:off x="179280" y="630864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b050"/>
                </a:solidFill>
                <a:latin typeface="Arial"/>
              </a:rPr>
              <a:t>Korábban csak a „SELV” volt az érintésvédelmi törpefeszültség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4643280" y="83664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KiF áramütés elleni védelem </a:t>
            </a:r>
            <a:br>
              <a:rPr sz="2000"/>
            </a:b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Védővezető nélküli védelem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zövegdoboz 1"/>
          <p:cNvSpPr/>
          <p:nvPr/>
        </p:nvSpPr>
        <p:spPr>
          <a:xfrm>
            <a:off x="179280" y="1341360"/>
            <a:ext cx="48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Érintésvédelmi törpefeszültség 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LV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4" name="Szövegdoboz 2"/>
          <p:cNvSpPr/>
          <p:nvPr/>
        </p:nvSpPr>
        <p:spPr>
          <a:xfrm>
            <a:off x="179280" y="2060640"/>
            <a:ext cx="8964720" cy="43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JELLEMZŐI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6699"/>
                </a:solidFill>
                <a:latin typeface="Arial"/>
              </a:rPr>
              <a:t>Táplálása: biztonsági transzformátorról </a:t>
            </a:r>
            <a:r>
              <a:rPr b="1" i="1" lang="hu-HU" sz="2800" spc="-1" strike="noStrike">
                <a:solidFill>
                  <a:srgbClr val="006699"/>
                </a:solidFill>
                <a:latin typeface="Arial"/>
              </a:rPr>
              <a:t>MSZ EN 61558</a:t>
            </a:r>
            <a:r>
              <a:rPr b="0" lang="hu-HU" sz="2800" spc="-1" strike="noStrike">
                <a:solidFill>
                  <a:srgbClr val="006699"/>
                </a:solidFill>
                <a:latin typeface="Arial"/>
              </a:rPr>
              <a:t> , vagy ezzel egyenértékű biztonsági tápforrásról,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6699"/>
                </a:solidFill>
                <a:latin typeface="Arial"/>
              </a:rPr>
              <a:t>A kisfeszültségű áramköröktől áthatolás ellen védő-elkülönítéssel kell védeni,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6699"/>
                </a:solidFill>
                <a:latin typeface="Arial"/>
              </a:rPr>
              <a:t>Az áramkörök lehetnek földeltek, és a testeket össze lehet kötni a földdel,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6699"/>
                </a:solidFill>
                <a:latin typeface="Arial"/>
              </a:rPr>
              <a:t>Védővezető alkalmazható.</a:t>
            </a:r>
            <a:r>
              <a:rPr b="0" i="1" lang="hu-HU" sz="28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" name="Szövegdoboz 3"/>
          <p:cNvSpPr/>
          <p:nvPr/>
        </p:nvSpPr>
        <p:spPr>
          <a:xfrm>
            <a:off x="179280" y="630864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b050"/>
                </a:solidFill>
                <a:latin typeface="Arial"/>
              </a:rPr>
              <a:t>Korábban csak a „SELV” volt az érintésvédelmi törpefeszültség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4643280" y="83664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KiF áramütés elleni védelem </a:t>
            </a:r>
            <a:br>
              <a:rPr sz="2000"/>
            </a:b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Védővezető nélküli védelem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Szövegdoboz 2"/>
          <p:cNvSpPr/>
          <p:nvPr/>
        </p:nvSpPr>
        <p:spPr>
          <a:xfrm>
            <a:off x="179280" y="6308640"/>
            <a:ext cx="78487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A kettős szigetelésű gyártmány önmagában biztosítja az érintésvédelmet, nincs szükség védővezetőre, védőérintkezőt csatlakozó dugója nem tartalmaz!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4643280" y="83664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KiF áramütés elleni védelem </a:t>
            </a:r>
            <a:br>
              <a:rPr sz="2000"/>
            </a:b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Védővezető nélküli védelem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Szövegdoboz 1"/>
          <p:cNvSpPr/>
          <p:nvPr/>
        </p:nvSpPr>
        <p:spPr>
          <a:xfrm>
            <a:off x="179280" y="1341360"/>
            <a:ext cx="48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ettős vagy megerősített szigetelés 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" name="Szövegdoboz 1"/>
          <p:cNvSpPr/>
          <p:nvPr/>
        </p:nvSpPr>
        <p:spPr>
          <a:xfrm>
            <a:off x="324000" y="1803240"/>
            <a:ext cx="8712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a3a3a"/>
                </a:solidFill>
                <a:latin typeface="Times New Roman"/>
                <a:ea typeface="Times New Roman"/>
              </a:rPr>
              <a:t>Rendeltetése: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a3a3a"/>
                </a:solidFill>
                <a:latin typeface="Times New Roman"/>
                <a:ea typeface="Times New Roman"/>
              </a:rPr>
              <a:t>Az alapszigetelés meghibásodásakor egy beépített további szigetelés  megakadályozza az életveszélyes feszültség megjelenését a villamos szerkezet ember által megérinthető részein!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a3a3a"/>
                </a:solidFill>
                <a:latin typeface="Times New Roman"/>
                <a:ea typeface="Times New Roman"/>
              </a:rPr>
              <a:t>Ha a második szigetelés vezetőképes rétegek közötti — mérhető — akkor a neve: </a:t>
            </a:r>
            <a:r>
              <a:rPr b="0" lang="hu-H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kiegészítő szigetelés</a:t>
            </a:r>
            <a:r>
              <a:rPr b="0" lang="hu-HU" sz="2800" spc="-1" strike="noStrike">
                <a:solidFill>
                  <a:srgbClr val="3a3a3a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a3a3a"/>
                </a:solidFill>
                <a:latin typeface="Times New Roman"/>
                <a:ea typeface="Times New Roman"/>
              </a:rPr>
              <a:t>ha az alapszigetelés kellő mértékű megvastagítása,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a3a3a"/>
                </a:solidFill>
                <a:latin typeface="Times New Roman"/>
                <a:ea typeface="Times New Roman"/>
              </a:rPr>
              <a:t>akkor a neve: </a:t>
            </a:r>
            <a:r>
              <a:rPr b="0" lang="hu-H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megerősített szigetelés</a:t>
            </a:r>
            <a:r>
              <a:rPr b="0" lang="hu-HU" sz="2800" spc="-1" strike="noStrike">
                <a:solidFill>
                  <a:srgbClr val="3a3a3a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Szövegdoboz 2"/>
          <p:cNvSpPr/>
          <p:nvPr/>
        </p:nvSpPr>
        <p:spPr>
          <a:xfrm>
            <a:off x="179280" y="6308640"/>
            <a:ext cx="78487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A kettős szigetelésű gyártmány önmagában biztosítja az érintésvédelmet, nincs szükség védővezetőre, védőérintkezőt csatlakozó dugója nem tartalmaz!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4643280" y="83664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KiF áramütés elleni védelem </a:t>
            </a:r>
            <a:br>
              <a:rPr sz="2000"/>
            </a:b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Védővezető nélküli védelem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Szövegdoboz 1"/>
          <p:cNvSpPr/>
          <p:nvPr/>
        </p:nvSpPr>
        <p:spPr>
          <a:xfrm>
            <a:off x="106200" y="1197000"/>
            <a:ext cx="48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ettős vagy megerősített szigetelés 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Szövegdoboz 2"/>
          <p:cNvSpPr/>
          <p:nvPr/>
        </p:nvSpPr>
        <p:spPr>
          <a:xfrm>
            <a:off x="324000" y="170028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Gyárilag készített kettős szigetelésű gyártmány jele: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89" name="Picture 9" descr=""/>
          <p:cNvPicPr/>
          <p:nvPr/>
        </p:nvPicPr>
        <p:blipFill>
          <a:blip r:embed="rId1"/>
          <a:stretch/>
        </p:blipFill>
        <p:spPr>
          <a:xfrm>
            <a:off x="1403280" y="2349360"/>
            <a:ext cx="1409760" cy="1387440"/>
          </a:xfrm>
          <a:prstGeom prst="rect">
            <a:avLst/>
          </a:prstGeom>
          <a:ln w="0">
            <a:noFill/>
          </a:ln>
        </p:spPr>
      </p:pic>
      <p:sp>
        <p:nvSpPr>
          <p:cNvPr id="90" name="Szövegdoboz 9"/>
          <p:cNvSpPr/>
          <p:nvPr/>
        </p:nvSpPr>
        <p:spPr>
          <a:xfrm>
            <a:off x="4635360" y="1700280"/>
            <a:ext cx="40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Egyedileg készített kettős, vagy megerősített szigetelésű termék jele: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1333800" cy="1249560"/>
          </a:xfrm>
          <a:prstGeom prst="rect">
            <a:avLst/>
          </a:prstGeom>
          <a:ln w="0">
            <a:noFill/>
          </a:ln>
        </p:spPr>
      </p:pic>
      <p:sp>
        <p:nvSpPr>
          <p:cNvPr id="92" name="Szövegdoboz 3"/>
          <p:cNvSpPr/>
          <p:nvPr/>
        </p:nvSpPr>
        <p:spPr>
          <a:xfrm>
            <a:off x="468360" y="357336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Kettős szigetelésű termék csatlakozódugója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Eurostecker </a:t>
            </a:r>
            <a:r>
              <a:rPr b="0" lang="hu-HU" sz="1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	</a:t>
            </a:r>
            <a:r>
              <a:rPr b="0" lang="hu-HU" sz="1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	</a:t>
            </a:r>
            <a:r>
              <a:rPr b="0" lang="hu-HU" sz="1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	</a:t>
            </a:r>
            <a:r>
              <a:rPr b="0" lang="hu-HU" sz="1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	</a:t>
            </a:r>
            <a:r>
              <a:rPr b="0" lang="hu-HU" sz="1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	</a:t>
            </a:r>
            <a:r>
              <a:rPr b="0" lang="hu-HU" sz="1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Konturstecker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3"/>
          <a:stretch/>
        </p:blipFill>
        <p:spPr>
          <a:xfrm>
            <a:off x="379440" y="4508640"/>
            <a:ext cx="2247840" cy="1303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4"/>
          <a:stretch/>
        </p:blipFill>
        <p:spPr>
          <a:xfrm>
            <a:off x="2916360" y="3952800"/>
            <a:ext cx="2239920" cy="2293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"/>
          <p:cNvPicPr/>
          <p:nvPr/>
        </p:nvPicPr>
        <p:blipFill>
          <a:blip r:embed="rId5"/>
          <a:stretch/>
        </p:blipFill>
        <p:spPr>
          <a:xfrm>
            <a:off x="5508720" y="4210200"/>
            <a:ext cx="2911320" cy="2027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06:43:25Z</dcterms:created>
  <dc:creator>Güntner Attila</dc:creator>
  <dc:description/>
  <dc:language>en-US</dc:language>
  <cp:lastModifiedBy>Kovács Károly</cp:lastModifiedBy>
  <dcterms:modified xsi:type="dcterms:W3CDTF">2018-10-02T06:26:50Z</dcterms:modified>
  <cp:revision>295</cp:revision>
  <dc:subject/>
  <dc:title>CÍM</dc:title>
</cp:coreProperties>
</file>